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DC7-D18B-402F-905D-4E6C0FA5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424-1567-4C32-A985-7E18AB00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250-6743-48A6-888E-33DF0DF7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852-2A4A-49E7-AC23-F9E13932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721-1F63-43BC-A5BE-64551E2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953-1569-4479-BC19-55424970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34A-64BF-4FD7-8304-BE04E744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2A5-F526-41F4-ADC9-20C5B8E4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1AD-D53E-477E-9D84-B401B663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E97-1615-4718-A9B7-99FBE94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D94-B798-4697-B056-616ACF5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2BE-983F-4188-B8CB-E5F7230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9A11-E877-4435-AB73-2C85A7D7D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915920"/>
            <a:ext cx="7629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вові засади охорони земель в Украї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НОТАЦІЯ ДИСЦИПЛІ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Мета вивчення дисципліни: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формування у студентів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системи знань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щодо основних правових засад охорони земель в Україні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Основні завдання дисциплін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володіння та закріплення студентами необхідних юридичних знань з метою вирішення конкретних питань їх майбутньої практичної діяльності щодо забезпечення правопорядку у процесі раціонального використання та охорони земел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У результаті вивчення курсу дисципліни студенти повинн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Зна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діюче земельне законодавство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основні принципи і завдання правової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інституційно-правове забезпечення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функціонально-правове забезпечення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обливості правової охорони окремих категорій зем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Уміт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застосовувати правові норми, що регулюють заходи охорони земе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- узагальнювати практику застосування законодавства про охорону зем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0000"/>
                </a:solidFill>
                <a:uFillTx/>
                <a:latin typeface="Arial"/>
              </a:rPr>
              <a:t>Основні питання, що вивчають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емлі України як об'єкт правової охоро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конодавче забезпечення правової охорони земель Украї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ституційно-функціональне забезпечення правової охорони зем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няття правової форми охорони земе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0000"/>
                </a:solidFill>
                <a:uFillTx/>
                <a:latin typeface="Arial"/>
              </a:rPr>
              <a:t>Проблеми правової охорони земель охоплюю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авове регулювання використання техногенно забруднених зем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авові засади рекультивації зем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обливості правової охорони окремих категорій зем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начення правового регулюван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строта проблем, які склалися щодо охорони земель в Україні, нагальна потреба у їх вирішенні потребують дієвих заходів впливу, зокрема правового характе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ість та важливість дослідження правових засад охорони земель в Україні обумовлена також реалізацією права громадян на безпечне для життя і здоров,я довкілля, що гарантовано Конституцією України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8T11:27:57Z</dcterms:created>
  <dc:creator>User</dc:creator>
  <dc:description/>
  <dc:language>en-US</dc:language>
  <cp:lastModifiedBy>Tanya</cp:lastModifiedBy>
  <dcterms:modified xsi:type="dcterms:W3CDTF">2007-01-01T00:10:29Z</dcterms:modified>
  <cp:revision>43</cp:revision>
  <dc:subject/>
  <dc:title>ПРАВОВЕ РЕГУЛЮВАННЯ ТРУДОВИХ ВІДНОСИН</dc:title>
</cp:coreProperties>
</file>