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A94-82CE-4345-A66A-1C72C86F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49D-EDC2-40DC-A52D-3894FF7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CE9-9D17-4FCB-B5CD-E07F8DD4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A1E-B991-4A18-B22F-CDC76991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3E4-E567-41B3-A1DB-4C4E3E7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7DB-E88C-49B3-AF5A-FFA299DB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75A-88AD-4492-90C0-A05730FB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CDF-D293-4C2F-8CF6-F2007F3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D45-33A7-4C2D-9D89-AFAB2F6F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B6E-016B-40AC-89A1-C67A4726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E69-4033-4F61-AEE4-C630046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E77-225C-407D-B90B-6F44754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FF91-19A7-45E9-A84C-CBE55AC7E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915920"/>
            <a:ext cx="7629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вові засади охорони земель в Украї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НОТАЦІЯ ДИСЦИПЛІ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Мета вивчення дисципліни: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формування у студентів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системи знань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щодо основних правових засад охорони земель в Україні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Основні завдання дисциплін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володіння та закріплення студентами необхідних юридичних знань з метою вирішення конкретних питань їх майбутньої практичної діяльності щодо забезпечення правопорядку у процесі раціонального використання та охорони земел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У результаті вивчення курсу дисципліни студенти повинн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Зна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діюче земельне законодавство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основні принципи і завдання правової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інституційно-правове забезпечення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функціонально-правове забезпечення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обливості правової охорони окремих категорій зем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Уміт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застосовувати правові норми, що регулюють заходи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узагальнювати практику застосування законодавства про охорону зем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0000"/>
                </a:solidFill>
                <a:uFillTx/>
                <a:latin typeface="Arial"/>
              </a:rPr>
              <a:t>Основні питання, що вивчають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емлі України як об'єкт правової охорон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конодавче забезпечення правової охорони земель Украї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ституційно-функціональне забезпечення правової охорони зем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няття правової форми охорони зем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0000"/>
                </a:solidFill>
                <a:uFillTx/>
                <a:latin typeface="Arial"/>
              </a:rPr>
              <a:t>Проблеми правової охорони земель охоплюю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авове регулювання використання техногенно забруднених зем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авові засади рекультивації зем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обливості правової охорони окремих категорій зем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начення правового регулюванн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строта проблем, які склалися щодо охорони земель в Україні, нагальна потреба у їх вирішенні потребують дієвих заходів впливу, зокрема правового характе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обхідність та важливість дослідження правових засад охорони земель в Україні обумовлена також реалізацією права громадян на безпечне для життя і здоров,я довкілля, що гарантовано Конституцією України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8T11:27:57Z</dcterms:created>
  <dc:creator>User</dc:creator>
  <dc:description/>
  <dc:language>en-US</dc:language>
  <cp:lastModifiedBy>Tanya</cp:lastModifiedBy>
  <dcterms:modified xsi:type="dcterms:W3CDTF">2007-01-01T00:10:29Z</dcterms:modified>
  <cp:revision>43</cp:revision>
  <dc:subject/>
  <dc:title>ПРАВОВЕ РЕГУЛЮВАННЯ ТРУДОВИХ ВІДНОСИН</dc:title>
</cp:coreProperties>
</file>