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1.png" ContentType="image/png"/>
  <Override PartName="/ppt/media/image49.jpeg" ContentType="image/jpeg"/>
  <Override PartName="/ppt/media/image48.png" ContentType="image/png"/>
  <Override PartName="/ppt/media/image46.jpeg" ContentType="image/jpeg"/>
  <Override PartName="/ppt/media/image15.wmf" ContentType="image/x-wmf"/>
  <Override PartName="/ppt/media/image58.png" ContentType="image/png"/>
  <Override PartName="/ppt/media/image45.png" ContentType="image/png"/>
  <Override PartName="/ppt/media/image44.png" ContentType="image/png"/>
  <Override PartName="/ppt/media/image33.jpeg" ContentType="image/jpeg"/>
  <Override PartName="/ppt/media/image27.png" ContentType="image/png"/>
  <Override PartName="/ppt/media/image4.png" ContentType="image/png"/>
  <Override PartName="/ppt/media/image3.jpeg" ContentType="image/jpeg"/>
  <Override PartName="/ppt/media/image41.jpeg" ContentType="image/jpeg"/>
  <Override PartName="/ppt/media/image55.png" ContentType="image/png"/>
  <Override PartName="/ppt/media/image17.wmf" ContentType="image/x-wmf"/>
  <Override PartName="/ppt/media/image2.jpeg" ContentType="image/jpeg"/>
  <Override PartName="/ppt/media/image32.jpeg" ContentType="image/jpeg"/>
  <Override PartName="/ppt/media/image20.wmf" ContentType="image/x-wmf"/>
  <Override PartName="/ppt/media/image21.jpeg" ContentType="image/jpeg"/>
  <Override PartName="/ppt/media/image69.wmf" ContentType="image/x-wmf"/>
  <Override PartName="/ppt/media/image22.png" ContentType="image/png"/>
  <Override PartName="/ppt/media/image16.wmf" ContentType="image/x-wmf"/>
  <Override PartName="/ppt/media/image66.jpeg" ContentType="image/jpeg"/>
  <Override PartName="/ppt/media/image59.png" ContentType="image/png"/>
  <Override PartName="/ppt/media/image67.jpeg" ContentType="image/jpeg"/>
  <Override PartName="/ppt/media/image57.png" ContentType="image/png"/>
  <Override PartName="/ppt/media/image14.wmf" ContentType="image/x-wmf"/>
  <Override PartName="/ppt/media/image65.jpeg" ContentType="image/jpeg"/>
  <Override PartName="/ppt/media/image38.png" ContentType="image/png"/>
  <Override PartName="/ppt/media/image64.jpeg" ContentType="image/jpeg"/>
  <Override PartName="/ppt/media/image40.jpeg" ContentType="image/jpeg"/>
  <Override PartName="/ppt/media/image13.wmf" ContentType="image/x-wmf"/>
  <Override PartName="/ppt/media/image56.png" ContentType="image/png"/>
  <Override PartName="/ppt/media/image1.wmf" ContentType="image/x-wmf"/>
  <Override PartName="/ppt/media/image63.jpeg" ContentType="image/jpeg"/>
  <Override PartName="/ppt/media/image60.png" ContentType="image/png"/>
  <Override PartName="/ppt/media/image62.png" ContentType="image/png"/>
  <Override PartName="/ppt/media/image28.jpeg" ContentType="image/jpeg"/>
  <Override PartName="/ppt/media/image68.jpeg" ContentType="image/jpeg"/>
  <Override PartName="/ppt/media/image24.png" ContentType="image/png"/>
  <Override PartName="/ppt/media/image61.png" ContentType="image/png"/>
  <Override PartName="/ppt/media/image23.png" ContentType="image/png"/>
  <Override PartName="/ppt/media/image36.png" ContentType="image/png"/>
  <Override PartName="/ppt/media/image25.png" ContentType="image/png"/>
  <Override PartName="/ppt/media/image6.png" ContentType="image/png"/>
  <Override PartName="/ppt/media/image42.jpeg" ContentType="image/jpeg"/>
  <Override PartName="/ppt/media/image53.png" ContentType="image/png"/>
  <Override PartName="/ppt/media/image10.wmf" ContentType="image/x-wmf"/>
  <Override PartName="/ppt/media/image31.jpeg" ContentType="image/jpeg"/>
  <Override PartName="/ppt/media/image8.wmf" ContentType="image/x-wmf"/>
  <Override PartName="/ppt/media/image29.jpeg" ContentType="image/jpeg"/>
  <Override PartName="/ppt/media/image43.jpeg" ContentType="image/jpeg"/>
  <Override PartName="/ppt/media/image39.jpeg" ContentType="image/jpeg"/>
  <Override PartName="/ppt/media/image5.png" ContentType="image/png"/>
  <Override PartName="/ppt/media/image50.jpeg" ContentType="image/jpeg"/>
  <Override PartName="/ppt/media/image52.png" ContentType="image/png"/>
  <Override PartName="/ppt/media/image9.wmf" ContentType="image/x-wmf"/>
  <Override PartName="/ppt/media/image26.png" ContentType="image/png"/>
  <Override PartName="/ppt/media/image54.png" ContentType="image/png"/>
  <Override PartName="/ppt/media/image11.wmf" ContentType="image/x-wmf"/>
  <Override PartName="/ppt/media/image19.wmf" ContentType="image/x-wmf"/>
  <Override PartName="/ppt/media/image7.wmf" ContentType="image/x-wmf"/>
  <Override PartName="/ppt/media/image18.wmf" ContentType="image/x-wmf"/>
  <Override PartName="/ppt/media/image30.jpeg" ContentType="image/jpeg"/>
  <Override PartName="/ppt/media/image12.png" ContentType="image/png"/>
  <Override PartName="/ppt/media/image34.jpeg" ContentType="image/jpeg"/>
  <Override PartName="/ppt/media/image37.png" ContentType="image/png"/>
  <Override PartName="/ppt/media/image35.jpeg" ContentType="image/jpeg"/>
  <Override PartName="/ppt/media/image4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520" y="1218960"/>
            <a:ext cx="7931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0520" y="3646800"/>
            <a:ext cx="7931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0520" y="1218960"/>
            <a:ext cx="38703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4920" y="1218960"/>
            <a:ext cx="38703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0520" y="3646800"/>
            <a:ext cx="38703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4920" y="3646800"/>
            <a:ext cx="38703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0520" y="1218960"/>
            <a:ext cx="255348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32160" y="1218960"/>
            <a:ext cx="255348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3440" y="1218960"/>
            <a:ext cx="255348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0520" y="3646800"/>
            <a:ext cx="255348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32160" y="3646800"/>
            <a:ext cx="255348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3440" y="3646800"/>
            <a:ext cx="255348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50520" y="1218960"/>
            <a:ext cx="7931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0520" y="1218960"/>
            <a:ext cx="7931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520" y="1218960"/>
            <a:ext cx="3870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4920" y="1218960"/>
            <a:ext cx="3870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87280" y="115560"/>
            <a:ext cx="69724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520" y="1218960"/>
            <a:ext cx="38703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920" y="1218960"/>
            <a:ext cx="3870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0520" y="3646800"/>
            <a:ext cx="38703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0520" y="1218960"/>
            <a:ext cx="7931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520" y="1218960"/>
            <a:ext cx="3870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4920" y="1218960"/>
            <a:ext cx="38703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4920" y="3646800"/>
            <a:ext cx="38703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0520" y="1218960"/>
            <a:ext cx="38703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4920" y="1218960"/>
            <a:ext cx="38703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50520" y="3646800"/>
            <a:ext cx="7931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520" y="1218960"/>
            <a:ext cx="7931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50520" y="3646800"/>
            <a:ext cx="7931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0520" y="1218960"/>
            <a:ext cx="38703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4920" y="1218960"/>
            <a:ext cx="38703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0520" y="3646800"/>
            <a:ext cx="38703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4920" y="3646800"/>
            <a:ext cx="38703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50520" y="1218960"/>
            <a:ext cx="255348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32160" y="1218960"/>
            <a:ext cx="255348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3440" y="1218960"/>
            <a:ext cx="255348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50520" y="3646800"/>
            <a:ext cx="255348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32160" y="3646800"/>
            <a:ext cx="255348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3440" y="3646800"/>
            <a:ext cx="255348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0520" y="1218960"/>
            <a:ext cx="7931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520" y="1218960"/>
            <a:ext cx="3870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4920" y="1218960"/>
            <a:ext cx="3870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87280" y="115560"/>
            <a:ext cx="69724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0520" y="1218960"/>
            <a:ext cx="38703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920" y="1218960"/>
            <a:ext cx="3870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0520" y="3646800"/>
            <a:ext cx="38703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0520" y="1218960"/>
            <a:ext cx="3870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920" y="1218960"/>
            <a:ext cx="38703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4920" y="3646800"/>
            <a:ext cx="38703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520" y="1218960"/>
            <a:ext cx="38703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4920" y="1218960"/>
            <a:ext cx="38703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0520" y="3646800"/>
            <a:ext cx="7931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0" y="981000"/>
            <a:ext cx="9144000" cy="568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1e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Rectangle 21"/>
          <p:cNvSpPr/>
          <p:nvPr/>
        </p:nvSpPr>
        <p:spPr>
          <a:xfrm>
            <a:off x="971640" y="0"/>
            <a:ext cx="8172360" cy="9079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" name="Picture 22" descr="BCS_Line_Black_WMF"/>
          <p:cNvPicPr/>
          <p:nvPr/>
        </p:nvPicPr>
        <p:blipFill>
          <a:blip r:embed="rId2"/>
          <a:stretch/>
        </p:blipFill>
        <p:spPr>
          <a:xfrm>
            <a:off x="6788160" y="6348240"/>
            <a:ext cx="2152800" cy="385920"/>
          </a:xfrm>
          <a:prstGeom prst="rect">
            <a:avLst/>
          </a:prstGeom>
          <a:ln w="0">
            <a:noFill/>
          </a:ln>
        </p:spPr>
      </p:pic>
      <p:sp>
        <p:nvSpPr>
          <p:cNvPr id="3" name="Line 23"/>
          <p:cNvSpPr/>
          <p:nvPr/>
        </p:nvSpPr>
        <p:spPr>
          <a:xfrm>
            <a:off x="139680" y="6229440"/>
            <a:ext cx="885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50520" y="1218960"/>
            <a:ext cx="7931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-18108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indent="-18108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1080" indent="-18108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1080" indent="-18108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1080" indent="-18108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1080" indent="-18108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82480" y="6380280"/>
            <a:ext cx="391824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Виноград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• Slide </a:t>
            </a:r>
            <a:fld id="{172A203F-3FE2-4850-BE27-44027677DC0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5" descr="104860"/>
          <p:cNvPicPr/>
          <p:nvPr/>
        </p:nvPicPr>
        <p:blipFill>
          <a:blip r:embed="rId3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39" descr="Cover template win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37" descr="BCS-logo-color"/>
          <p:cNvPicPr/>
          <p:nvPr/>
        </p:nvPicPr>
        <p:blipFill>
          <a:blip r:embed="rId3"/>
          <a:stretch/>
        </p:blipFill>
        <p:spPr>
          <a:xfrm>
            <a:off x="5651640" y="6021360"/>
            <a:ext cx="3220920" cy="631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38" descr="BCS_gradient_portrait"/>
          <p:cNvPicPr/>
          <p:nvPr/>
        </p:nvPicPr>
        <p:blipFill>
          <a:blip r:embed="rId4"/>
          <a:stretch/>
        </p:blipFill>
        <p:spPr>
          <a:xfrm>
            <a:off x="0" y="0"/>
            <a:ext cx="25236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50520" y="1218960"/>
            <a:ext cx="7931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-18108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indent="-18108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1080" indent="-18108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1080" indent="-18108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1080" indent="-18108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1080" indent="-18108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png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image" Target="../media/image15.wmf"/><Relationship Id="rId11" Type="http://schemas.openxmlformats.org/officeDocument/2006/relationships/image" Target="../media/image16.wmf"/><Relationship Id="rId12" Type="http://schemas.openxmlformats.org/officeDocument/2006/relationships/image" Target="../media/image17.wmf"/><Relationship Id="rId13" Type="http://schemas.openxmlformats.org/officeDocument/2006/relationships/image" Target="../media/image18.wmf"/><Relationship Id="rId14" Type="http://schemas.openxmlformats.org/officeDocument/2006/relationships/image" Target="../media/image19.wmf"/><Relationship Id="rId15" Type="http://schemas.openxmlformats.org/officeDocument/2006/relationships/image" Target="../media/image20.wmf"/><Relationship Id="rId16" Type="http://schemas.openxmlformats.org/officeDocument/2006/relationships/image" Target="../media/image21.jpeg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4.png"/><Relationship Id="rId3" Type="http://schemas.openxmlformats.org/officeDocument/2006/relationships/image" Target="../media/image31.jpeg"/><Relationship Id="rId4" Type="http://schemas.openxmlformats.org/officeDocument/2006/relationships/image" Target="../media/image25.pn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cc00"/>
                </a:solidFill>
                <a:latin typeface="Arial"/>
              </a:rPr>
              <a:t>Програма захисту винограду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Дата 3"/>
          <p:cNvSpPr/>
          <p:nvPr/>
        </p:nvSpPr>
        <p:spPr>
          <a:xfrm>
            <a:off x="582480" y="6380280"/>
            <a:ext cx="3918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 Narrow"/>
              </a:rPr>
              <a:t>Виноград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• Slide </a:t>
            </a:r>
            <a:fld id="{A1619FC4-4A0D-485B-8F46-B94D8701CB54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0" y="5373720"/>
            <a:ext cx="9144000" cy="7984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оротьба проти хвороб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274920" y="2646360"/>
            <a:ext cx="3384720" cy="25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5 г/кг іпровалікарбу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 612 г/кг пропінебу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аковка: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5,0 кг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рма витрати: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2,0-2,5 кг/га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ількість обробок: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рмін очікування: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50 днів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2" name="Picture 13" descr="DOM_mosaic_mildew_rgb"/>
          <p:cNvPicPr/>
          <p:nvPr/>
        </p:nvPicPr>
        <p:blipFill>
          <a:blip r:embed="rId1"/>
          <a:srcRect l="0" t="0" r="467" b="-258"/>
          <a:stretch/>
        </p:blipFill>
        <p:spPr>
          <a:xfrm>
            <a:off x="2982960" y="537372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DOM_spot_of_oil_zoom_1_rgb"/>
          <p:cNvPicPr/>
          <p:nvPr/>
        </p:nvPicPr>
        <p:blipFill>
          <a:blip r:embed="rId2"/>
          <a:srcRect l="0" t="0" r="467" b="-86"/>
          <a:stretch/>
        </p:blipFill>
        <p:spPr>
          <a:xfrm>
            <a:off x="4494240" y="5373720"/>
            <a:ext cx="725400" cy="792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5" descr="DOM_brown_rot_zoom_1_rgb"/>
          <p:cNvPicPr/>
          <p:nvPr/>
        </p:nvPicPr>
        <p:blipFill>
          <a:blip r:embed="rId3"/>
          <a:srcRect l="0" t="0" r="-140" b="-86"/>
          <a:stretch/>
        </p:blipFill>
        <p:spPr>
          <a:xfrm>
            <a:off x="3774960" y="5373720"/>
            <a:ext cx="725760" cy="792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7" descr="DOM_brown_rot_rgb"/>
          <p:cNvPicPr/>
          <p:nvPr/>
        </p:nvPicPr>
        <p:blipFill>
          <a:blip r:embed="rId4"/>
          <a:stretch/>
        </p:blipFill>
        <p:spPr>
          <a:xfrm>
            <a:off x="195120" y="2004840"/>
            <a:ext cx="1859040" cy="3961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DOM_brown_rot_zoom_2_rgb"/>
          <p:cNvPicPr/>
          <p:nvPr/>
        </p:nvPicPr>
        <p:blipFill>
          <a:blip r:embed="rId5"/>
          <a:srcRect l="0" t="0" r="327" b="-86"/>
          <a:stretch/>
        </p:blipFill>
        <p:spPr>
          <a:xfrm>
            <a:off x="2262240" y="5373720"/>
            <a:ext cx="725400" cy="792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21"/>
          <p:cNvSpPr/>
          <p:nvPr/>
        </p:nvSpPr>
        <p:spPr>
          <a:xfrm>
            <a:off x="251640" y="1341360"/>
            <a:ext cx="11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ілдью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8" name="Picture 34" descr="mel_duo_bt_RGB-UKR"/>
          <p:cNvPicPr/>
          <p:nvPr/>
        </p:nvPicPr>
        <p:blipFill>
          <a:blip r:embed="rId6"/>
          <a:stretch/>
        </p:blipFill>
        <p:spPr>
          <a:xfrm>
            <a:off x="6227640" y="0"/>
            <a:ext cx="2576520" cy="2576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5" descr="IMG_4424"/>
          <p:cNvPicPr/>
          <p:nvPr/>
        </p:nvPicPr>
        <p:blipFill>
          <a:blip r:embed="rId7"/>
          <a:stretch/>
        </p:blipFill>
        <p:spPr>
          <a:xfrm>
            <a:off x="6877080" y="2708280"/>
            <a:ext cx="1942920" cy="3335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Дата 3"/>
          <p:cNvSpPr/>
          <p:nvPr/>
        </p:nvSpPr>
        <p:spPr>
          <a:xfrm>
            <a:off x="582480" y="6380280"/>
            <a:ext cx="3918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 Narrow"/>
              </a:rPr>
              <a:t>Виноград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• Slide </a:t>
            </a:r>
            <a:fld id="{C3FE5A10-6E54-4515-8D4C-1C3D11D01FAC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еваг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6121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300"/>
              </a:spcBef>
              <a:spcAft>
                <a:spcPts val="1500"/>
              </a:spcAft>
              <a:buClr>
                <a:srgbClr val="00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80"/>
                </a:solidFill>
                <a:latin typeface="Arial"/>
              </a:rPr>
              <a:t>Профілактична, лікувальна та</a:t>
            </a:r>
            <a:r>
              <a:rPr b="0" lang="en-US" sz="2600" spc="-1" strike="noStrike">
                <a:solidFill>
                  <a:srgbClr val="800080"/>
                </a:solidFill>
                <a:latin typeface="Arial"/>
              </a:rPr>
              <a:t> </a:t>
            </a:r>
            <a:r>
              <a:rPr b="0" lang="ru-RU" sz="2600" spc="-1" strike="noStrike">
                <a:solidFill>
                  <a:srgbClr val="800080"/>
                </a:solidFill>
                <a:latin typeface="Arial"/>
              </a:rPr>
              <a:t>антиспорулянтна ді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1500"/>
              </a:spcAft>
              <a:buClr>
                <a:srgbClr val="00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80"/>
                </a:solidFill>
                <a:latin typeface="Arial"/>
              </a:rPr>
              <a:t>Поєднання системної і контактної дії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1500"/>
              </a:spcAft>
              <a:buClr>
                <a:srgbClr val="00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80"/>
                </a:solidFill>
                <a:latin typeface="Arial"/>
              </a:rPr>
              <a:t>Ефект підживлення рослин цинк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1500"/>
              </a:spcAft>
              <a:buClr>
                <a:srgbClr val="00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80"/>
                </a:solidFill>
                <a:latin typeface="Arial"/>
              </a:rPr>
              <a:t>Сприятливі  токсикологічні характеристик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1500"/>
              </a:spcAft>
              <a:buClr>
                <a:srgbClr val="00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80"/>
                </a:solidFill>
                <a:latin typeface="Arial"/>
              </a:rPr>
              <a:t>Ідеальний компонент для для досконалої системи захисту винограду від хвороб  препаратами компанії </a:t>
            </a:r>
            <a:r>
              <a:rPr b="0" lang="en-US" sz="2600" spc="-1" strike="noStrike">
                <a:solidFill>
                  <a:srgbClr val="800080"/>
                </a:solidFill>
                <a:latin typeface="Arial"/>
              </a:rPr>
              <a:t>«</a:t>
            </a:r>
            <a:r>
              <a:rPr b="0" lang="ru-RU" sz="2600" spc="-1" strike="noStrike">
                <a:solidFill>
                  <a:srgbClr val="800080"/>
                </a:solidFill>
                <a:latin typeface="Arial"/>
              </a:rPr>
              <a:t>Байєр КропСаєнс</a:t>
            </a:r>
            <a:r>
              <a:rPr b="0" lang="en-US" sz="2600" spc="-1" strike="noStrike">
                <a:solidFill>
                  <a:srgbClr val="800080"/>
                </a:solidFill>
                <a:latin typeface="Arial"/>
              </a:rPr>
              <a:t>»</a:t>
            </a:r>
            <a:r>
              <a:rPr b="0" lang="ru-RU" sz="26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9" descr="IMG_4424"/>
          <p:cNvPicPr/>
          <p:nvPr/>
        </p:nvPicPr>
        <p:blipFill>
          <a:blip r:embed="rId1"/>
          <a:stretch/>
        </p:blipFill>
        <p:spPr>
          <a:xfrm>
            <a:off x="6499080" y="2060640"/>
            <a:ext cx="2320920" cy="3983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Дата 2"/>
          <p:cNvSpPr/>
          <p:nvPr/>
        </p:nvSpPr>
        <p:spPr>
          <a:xfrm>
            <a:off x="582480" y="6380280"/>
            <a:ext cx="3918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 Narrow"/>
              </a:rPr>
              <a:t>Виноград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• Slide </a:t>
            </a:r>
            <a:fld id="{C45BAB21-C914-42F1-9E87-4F998AE14E2F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оротьба проти хвороб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0" y="5373720"/>
            <a:ext cx="9144000" cy="7984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252000" y="1125360"/>
            <a:ext cx="5834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ір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гниль(під час цвітіння і в період визрівання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3138120" y="2637000"/>
            <a:ext cx="302904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00 г/л піриметанілу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аковка: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5,0 л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рма витрати: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1,2-2,4 л/га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ількість обробок: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2-3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рмін очікування: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14 днів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9" name="Picture 10" descr="Botrytis_cinerea_Vine"/>
          <p:cNvPicPr/>
          <p:nvPr/>
        </p:nvPicPr>
        <p:blipFill>
          <a:blip r:embed="rId1"/>
          <a:stretch/>
        </p:blipFill>
        <p:spPr>
          <a:xfrm>
            <a:off x="0" y="2781360"/>
            <a:ext cx="2808360" cy="1797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scala-bt"/>
          <p:cNvPicPr/>
          <p:nvPr/>
        </p:nvPicPr>
        <p:blipFill>
          <a:blip r:embed="rId2"/>
          <a:stretch/>
        </p:blipFill>
        <p:spPr>
          <a:xfrm>
            <a:off x="6227640" y="0"/>
            <a:ext cx="2576520" cy="2576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Scala"/>
          <p:cNvPicPr/>
          <p:nvPr/>
        </p:nvPicPr>
        <p:blipFill>
          <a:blip r:embed="rId3"/>
          <a:stretch/>
        </p:blipFill>
        <p:spPr>
          <a:xfrm>
            <a:off x="6873840" y="2924280"/>
            <a:ext cx="2021040" cy="3084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Дата 2"/>
          <p:cNvSpPr/>
          <p:nvPr/>
        </p:nvSpPr>
        <p:spPr>
          <a:xfrm>
            <a:off x="582480" y="6380280"/>
            <a:ext cx="3918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 Narrow"/>
              </a:rPr>
              <a:t>Виноград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• Slide </a:t>
            </a:r>
            <a:fld id="{4604CECD-6F48-47B2-8EC8-5E6E2E4164F7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оротьба проти хвороб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0" y="5373720"/>
            <a:ext cx="9144000" cy="7984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3067200" y="2637000"/>
            <a:ext cx="28936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20 г/кг трифлоксістробіну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00 г/кг піриметанілу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аковка: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5,0 л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рма витрати: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0,4-0,6 л/га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ількість обробок: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до 3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рмін очікування: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20 діб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253080" y="1125360"/>
            <a:ext cx="340704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їдіум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ір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гниль (під час цвітіння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7" name="Picture 12" descr="Botrytis_cinerea_Vine"/>
          <p:cNvPicPr/>
          <p:nvPr/>
        </p:nvPicPr>
        <p:blipFill>
          <a:blip r:embed="rId1"/>
          <a:stretch/>
        </p:blipFill>
        <p:spPr>
          <a:xfrm>
            <a:off x="0" y="3573360"/>
            <a:ext cx="2808360" cy="1797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"/>
          <p:cNvPicPr/>
          <p:nvPr/>
        </p:nvPicPr>
        <p:blipFill>
          <a:blip r:embed="rId2"/>
          <a:stretch/>
        </p:blipFill>
        <p:spPr>
          <a:xfrm>
            <a:off x="0" y="213372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"/>
          <p:cNvPicPr/>
          <p:nvPr/>
        </p:nvPicPr>
        <p:blipFill>
          <a:blip r:embed="rId3"/>
          <a:stretch/>
        </p:blipFill>
        <p:spPr>
          <a:xfrm>
            <a:off x="1401840" y="213192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flint-star-bt"/>
          <p:cNvPicPr/>
          <p:nvPr/>
        </p:nvPicPr>
        <p:blipFill>
          <a:blip r:embed="rId4"/>
          <a:stretch/>
        </p:blipFill>
        <p:spPr>
          <a:xfrm>
            <a:off x="6227640" y="0"/>
            <a:ext cx="2576520" cy="2576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" descr="Flint-Star"/>
          <p:cNvPicPr/>
          <p:nvPr/>
        </p:nvPicPr>
        <p:blipFill>
          <a:blip r:embed="rId5"/>
          <a:stretch/>
        </p:blipFill>
        <p:spPr>
          <a:xfrm>
            <a:off x="6804000" y="2924280"/>
            <a:ext cx="1943280" cy="2966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Дата 3"/>
          <p:cNvSpPr/>
          <p:nvPr/>
        </p:nvSpPr>
        <p:spPr>
          <a:xfrm>
            <a:off x="582480" y="6380280"/>
            <a:ext cx="3918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 Narrow"/>
              </a:rPr>
              <a:t>Виноград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• Slide </a:t>
            </a:r>
            <a:fld id="{F235237C-D871-4156-B3D4-20E47B2FEBD7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еваг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0840" y="1630080"/>
            <a:ext cx="6076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Унікальні властивості редистрибуції - мезостемність у поєднанні з полістемніст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601"/>
              </a:spcAft>
              <a:buClr>
                <a:srgbClr val="f99b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Arial"/>
              </a:rPr>
              <a:t>Розподіл обох компонентів у газовій фаз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601"/>
              </a:spcAft>
              <a:buClr>
                <a:srgbClr val="f99b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Одночасний контроль Оїдіуму і Сірої гнилі під час цвіті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601"/>
              </a:spcAft>
              <a:buClr>
                <a:srgbClr val="f99b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Відмінна стійкість до змивання дощ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601"/>
              </a:spcAft>
              <a:buClr>
                <a:srgbClr val="f99b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Сприятливе токсикологічне досьє препара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601"/>
              </a:spcAft>
              <a:buClr>
                <a:srgbClr val="f99b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Сучасна формуляці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Flint-Star"/>
          <p:cNvPicPr/>
          <p:nvPr/>
        </p:nvPicPr>
        <p:blipFill>
          <a:blip r:embed="rId1"/>
          <a:stretch/>
        </p:blipFill>
        <p:spPr>
          <a:xfrm>
            <a:off x="6238800" y="1773360"/>
            <a:ext cx="2508480" cy="3830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Дата 3"/>
          <p:cNvSpPr/>
          <p:nvPr/>
        </p:nvSpPr>
        <p:spPr>
          <a:xfrm>
            <a:off x="582480" y="6380280"/>
            <a:ext cx="3918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 Narrow"/>
              </a:rPr>
              <a:t>Виноград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• Slide </a:t>
            </a:r>
            <a:fld id="{331476A7-EBF3-42F6-8E63-026B5BC4C6AB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0" y="5373720"/>
            <a:ext cx="9144000" cy="7984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оротьба проти хвороб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3220560" y="2637000"/>
            <a:ext cx="33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Флінт</a:t>
            </a:r>
            <a:r>
              <a:rPr b="0" lang="ru-RU" sz="3600" spc="-1" strike="noStrike" baseline="30000">
                <a:solidFill>
                  <a:srgbClr val="009900"/>
                </a:solidFill>
                <a:latin typeface="Arial"/>
              </a:rPr>
              <a:t>®</a:t>
            </a: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 50% в.г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3216960" y="3357720"/>
            <a:ext cx="3308040" cy="18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00 г/кг трифлоксістробіну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аковка: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0,5 кг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рма витрати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0,14-0,3* кг/га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ількіст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обок: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рмін очікування: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21 день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251280" y="981000"/>
            <a:ext cx="145332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їдіум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нилі*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снуха*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2" name="Picture 27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1584000" cy="1584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8" descr=""/>
          <p:cNvPicPr/>
          <p:nvPr/>
        </p:nvPicPr>
        <p:blipFill>
          <a:blip r:embed="rId2"/>
          <a:stretch/>
        </p:blipFill>
        <p:spPr>
          <a:xfrm>
            <a:off x="324000" y="4437000"/>
            <a:ext cx="1584000" cy="1584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7" descr="fli_bt_RGB-UKR"/>
          <p:cNvPicPr/>
          <p:nvPr/>
        </p:nvPicPr>
        <p:blipFill>
          <a:blip r:embed="rId3"/>
          <a:stretch/>
        </p:blipFill>
        <p:spPr>
          <a:xfrm>
            <a:off x="6227640" y="0"/>
            <a:ext cx="2576520" cy="2576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9" descr="IMG_1032"/>
          <p:cNvPicPr/>
          <p:nvPr/>
        </p:nvPicPr>
        <p:blipFill>
          <a:blip r:embed="rId4"/>
          <a:stretch/>
        </p:blipFill>
        <p:spPr>
          <a:xfrm>
            <a:off x="7091280" y="2867040"/>
            <a:ext cx="1513080" cy="3225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Дата 3"/>
          <p:cNvSpPr/>
          <p:nvPr/>
        </p:nvSpPr>
        <p:spPr>
          <a:xfrm>
            <a:off x="582480" y="6380280"/>
            <a:ext cx="3918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 Narrow"/>
              </a:rPr>
              <a:t>Виноград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• Slide </a:t>
            </a:r>
            <a:fld id="{3995D6CA-237D-4C05-80AD-1F615D8972D5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0" y="5373720"/>
            <a:ext cx="9144000" cy="7984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оротьба проти хвороб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2500920" y="2454120"/>
            <a:ext cx="35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Натіво</a:t>
            </a:r>
            <a:r>
              <a:rPr b="0" lang="ru-RU" sz="3600" spc="-1" strike="noStrike" baseline="30000">
                <a:solidFill>
                  <a:srgbClr val="009900"/>
                </a:solidFill>
                <a:latin typeface="Arial"/>
              </a:rPr>
              <a:t>®</a:t>
            </a: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 75% в.г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2491920" y="3095640"/>
            <a:ext cx="339660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50 г/кг трифлоксістробіну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00 г/кг тебуконазолу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аковка: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1,0 кг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рма витрати: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0,16–0,18 кг/га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ількість обробок: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рмін очікування: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20 діб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250920" y="1038240"/>
            <a:ext cx="1492200" cy="20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їдіум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нилі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снух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мопсис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2" name="Picture 16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1584000" cy="1584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7" descr=""/>
          <p:cNvPicPr/>
          <p:nvPr/>
        </p:nvPicPr>
        <p:blipFill>
          <a:blip r:embed="rId2"/>
          <a:stretch/>
        </p:blipFill>
        <p:spPr>
          <a:xfrm>
            <a:off x="324000" y="4437000"/>
            <a:ext cx="1584000" cy="1584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9" descr="nativo_bt_RGB-UKR"/>
          <p:cNvPicPr/>
          <p:nvPr/>
        </p:nvPicPr>
        <p:blipFill>
          <a:blip r:embed="rId3"/>
          <a:stretch/>
        </p:blipFill>
        <p:spPr>
          <a:xfrm>
            <a:off x="6227640" y="0"/>
            <a:ext cx="2576520" cy="2576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2" descr="IMG_8972"/>
          <p:cNvPicPr/>
          <p:nvPr/>
        </p:nvPicPr>
        <p:blipFill>
          <a:blip r:embed="rId4"/>
          <a:stretch/>
        </p:blipFill>
        <p:spPr>
          <a:xfrm>
            <a:off x="6702480" y="2852640"/>
            <a:ext cx="183024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Дата 2"/>
          <p:cNvSpPr/>
          <p:nvPr/>
        </p:nvSpPr>
        <p:spPr>
          <a:xfrm>
            <a:off x="582480" y="6380280"/>
            <a:ext cx="3918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 Narrow"/>
              </a:rPr>
              <a:t>Виноград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• Slide </a:t>
            </a:r>
            <a:fld id="{FF054C9F-E641-4671-BBC9-A1ABB66BA0E4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" name="Rectangle 29"/>
          <p:cNvSpPr/>
          <p:nvPr/>
        </p:nvSpPr>
        <p:spPr>
          <a:xfrm>
            <a:off x="0" y="5373720"/>
            <a:ext cx="9144000" cy="7984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оротьба проти хвороб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8"/>
          <p:cNvSpPr/>
          <p:nvPr/>
        </p:nvSpPr>
        <p:spPr>
          <a:xfrm>
            <a:off x="324720" y="1197000"/>
            <a:ext cx="117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їдіум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2633400" y="2133720"/>
            <a:ext cx="302760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67 г/л тебуконазолу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 43 г/л триадіменолу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 250 г/л спіроксаміну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аковка: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5,0 л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рма витрати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0,3 л/га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ількіст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обок: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до 3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рмін очікування: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21 день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1" name="Picture 39" descr="fal_bt_RGB-UKR"/>
          <p:cNvPicPr/>
          <p:nvPr/>
        </p:nvPicPr>
        <p:blipFill>
          <a:blip r:embed="rId1"/>
          <a:stretch/>
        </p:blipFill>
        <p:spPr>
          <a:xfrm>
            <a:off x="6227640" y="0"/>
            <a:ext cx="2576520" cy="25765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1" descr="falcon"/>
          <p:cNvPicPr/>
          <p:nvPr/>
        </p:nvPicPr>
        <p:blipFill>
          <a:blip r:embed="rId2"/>
          <a:stretch/>
        </p:blipFill>
        <p:spPr>
          <a:xfrm>
            <a:off x="6939000" y="3141720"/>
            <a:ext cx="1809720" cy="2722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2" descr=""/>
          <p:cNvPicPr/>
          <p:nvPr/>
        </p:nvPicPr>
        <p:blipFill>
          <a:blip r:embed="rId3"/>
          <a:stretch/>
        </p:blipFill>
        <p:spPr>
          <a:xfrm>
            <a:off x="324000" y="2924280"/>
            <a:ext cx="1584000" cy="1584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3" descr=""/>
          <p:cNvPicPr/>
          <p:nvPr/>
        </p:nvPicPr>
        <p:blipFill>
          <a:blip r:embed="rId4"/>
          <a:stretch/>
        </p:blipFill>
        <p:spPr>
          <a:xfrm>
            <a:off x="324000" y="4437000"/>
            <a:ext cx="1584000" cy="1584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Дата 3"/>
          <p:cNvSpPr/>
          <p:nvPr/>
        </p:nvSpPr>
        <p:spPr>
          <a:xfrm>
            <a:off x="582480" y="6380280"/>
            <a:ext cx="3918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 Narrow"/>
              </a:rPr>
              <a:t>Виноград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• Slide </a:t>
            </a:r>
            <a:fld id="{51ADF9BD-84BC-4A54-A144-46722DA882D9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" name="Rectangle 15"/>
          <p:cNvSpPr/>
          <p:nvPr/>
        </p:nvSpPr>
        <p:spPr>
          <a:xfrm>
            <a:off x="0" y="5373720"/>
            <a:ext cx="9144000" cy="7984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оротьба проти хвороб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325080" y="1197000"/>
            <a:ext cx="180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іра гниль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9" name="Picture 16" descr="Botrytis_cinerea_Vine"/>
          <p:cNvPicPr/>
          <p:nvPr/>
        </p:nvPicPr>
        <p:blipFill>
          <a:blip r:embed="rId1"/>
          <a:stretch/>
        </p:blipFill>
        <p:spPr>
          <a:xfrm>
            <a:off x="250920" y="2924280"/>
            <a:ext cx="2808360" cy="179712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9"/>
          <p:cNvSpPr/>
          <p:nvPr/>
        </p:nvSpPr>
        <p:spPr>
          <a:xfrm>
            <a:off x="3283200" y="2757600"/>
            <a:ext cx="309312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00 г/кг фенгексаміду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аковка: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5,0 кг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рма витрати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0,8-1,0 кг/га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ількіст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обок: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рмін очікування: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7 днів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41" name="Picture 31" descr="tel_bt_RGB-UKR"/>
          <p:cNvPicPr/>
          <p:nvPr/>
        </p:nvPicPr>
        <p:blipFill>
          <a:blip r:embed="rId2"/>
          <a:stretch/>
        </p:blipFill>
        <p:spPr>
          <a:xfrm>
            <a:off x="6227640" y="0"/>
            <a:ext cx="2576520" cy="25765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2" descr="teldor"/>
          <p:cNvPicPr/>
          <p:nvPr/>
        </p:nvPicPr>
        <p:blipFill>
          <a:blip r:embed="rId3"/>
          <a:stretch/>
        </p:blipFill>
        <p:spPr>
          <a:xfrm>
            <a:off x="6804000" y="2909880"/>
            <a:ext cx="2089080" cy="3183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0520" y="1218960"/>
            <a:ext cx="7931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Дата 3"/>
          <p:cNvSpPr/>
          <p:nvPr/>
        </p:nvSpPr>
        <p:spPr>
          <a:xfrm>
            <a:off x="582480" y="6380280"/>
            <a:ext cx="3918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 Narrow"/>
              </a:rPr>
              <a:t>Виноград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• Slide </a:t>
            </a:r>
            <a:fld id="{A6FCA7F1-264A-40D8-B5DF-CFA7164F3C81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46" name="Picture 2" descr="E:\Vergeles\АГРОФАРМАКОЛОГІЯ\КАТАЛОГИ\2019\баєр\рисунки\p123-001виногр.jpg"/>
          <p:cNvPicPr/>
          <p:nvPr/>
        </p:nvPicPr>
        <p:blipFill>
          <a:blip r:embed="rId1"/>
          <a:stretch/>
        </p:blipFill>
        <p:spPr>
          <a:xfrm>
            <a:off x="324000" y="404640"/>
            <a:ext cx="7562880" cy="5759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Дата 6"/>
          <p:cNvSpPr/>
          <p:nvPr/>
        </p:nvSpPr>
        <p:spPr>
          <a:xfrm>
            <a:off x="582480" y="6380280"/>
            <a:ext cx="3918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 Narrow"/>
              </a:rPr>
              <a:t>Виноград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• Slide </a:t>
            </a:r>
            <a:fld id="{AABFAB58-0B3A-463F-98C8-A59515316B37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Rectangle 41"/>
          <p:cNvSpPr/>
          <p:nvPr/>
        </p:nvSpPr>
        <p:spPr>
          <a:xfrm>
            <a:off x="0" y="981000"/>
            <a:ext cx="9144000" cy="58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грама захисту винограду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995640" y="2492280"/>
            <a:ext cx="39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0" name="Picture 39" descr=""/>
          <p:cNvPicPr/>
          <p:nvPr/>
        </p:nvPicPr>
        <p:blipFill>
          <a:blip r:embed="rId1"/>
          <a:stretch/>
        </p:blipFill>
        <p:spPr>
          <a:xfrm>
            <a:off x="0" y="981000"/>
            <a:ext cx="2193840" cy="5877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2"/>
          <p:cNvSpPr/>
          <p:nvPr/>
        </p:nvSpPr>
        <p:spPr>
          <a:xfrm>
            <a:off x="2976480" y="225108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ІНСЕКТИЦИД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КАРИЦИДИ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Text Box 43"/>
          <p:cNvSpPr/>
          <p:nvPr/>
        </p:nvSpPr>
        <p:spPr>
          <a:xfrm>
            <a:off x="2978280" y="11714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РБІЦИДИ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Text Box 44"/>
          <p:cNvSpPr/>
          <p:nvPr/>
        </p:nvSpPr>
        <p:spPr>
          <a:xfrm>
            <a:off x="2978280" y="4916520"/>
            <a:ext cx="19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ГІЦИДИ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4" name="Picture 45" descr="Herbicides icon"/>
          <p:cNvPicPr/>
          <p:nvPr/>
        </p:nvPicPr>
        <p:blipFill>
          <a:blip r:embed="rId2"/>
          <a:stretch/>
        </p:blipFill>
        <p:spPr>
          <a:xfrm>
            <a:off x="2556000" y="1212840"/>
            <a:ext cx="361800" cy="365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6" descr="Fungicides icon"/>
          <p:cNvPicPr/>
          <p:nvPr/>
        </p:nvPicPr>
        <p:blipFill>
          <a:blip r:embed="rId3"/>
          <a:stretch/>
        </p:blipFill>
        <p:spPr>
          <a:xfrm>
            <a:off x="2556000" y="4950000"/>
            <a:ext cx="363240" cy="365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7" descr="Insecticides icon"/>
          <p:cNvPicPr/>
          <p:nvPr/>
        </p:nvPicPr>
        <p:blipFill>
          <a:blip r:embed="rId4"/>
          <a:stretch/>
        </p:blipFill>
        <p:spPr>
          <a:xfrm>
            <a:off x="2556000" y="2297160"/>
            <a:ext cx="361800" cy="365040"/>
          </a:xfrm>
          <a:prstGeom prst="rect">
            <a:avLst/>
          </a:prstGeom>
          <a:ln w="0">
            <a:noFill/>
          </a:ln>
        </p:spPr>
      </p:pic>
      <p:sp>
        <p:nvSpPr>
          <p:cNvPr id="97" name="Line 48"/>
          <p:cNvSpPr/>
          <p:nvPr/>
        </p:nvSpPr>
        <p:spPr>
          <a:xfrm flipH="1">
            <a:off x="3120840" y="1844640"/>
            <a:ext cx="5771880" cy="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Line 49"/>
          <p:cNvSpPr/>
          <p:nvPr/>
        </p:nvSpPr>
        <p:spPr>
          <a:xfrm flipH="1">
            <a:off x="3120840" y="3141720"/>
            <a:ext cx="5771880" cy="0"/>
          </a:xfrm>
          <a:prstGeom prst="line">
            <a:avLst/>
          </a:prstGeom>
          <a:ln w="12600">
            <a:solidFill>
              <a:srgbClr val="1e4f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9" name="Picture 51" descr="bas_bf_RGB Ukr"/>
          <p:cNvPicPr/>
          <p:nvPr/>
        </p:nvPicPr>
        <p:blipFill>
          <a:blip r:embed="rId5"/>
          <a:stretch/>
        </p:blipFill>
        <p:spPr>
          <a:xfrm>
            <a:off x="6588000" y="1073160"/>
            <a:ext cx="2160720" cy="555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3" descr="con_bf_RGB UKR dark"/>
          <p:cNvPicPr/>
          <p:nvPr/>
        </p:nvPicPr>
        <p:blipFill>
          <a:blip r:embed="rId6"/>
          <a:stretch/>
        </p:blipFill>
        <p:spPr>
          <a:xfrm>
            <a:off x="5508720" y="1916280"/>
            <a:ext cx="1709640" cy="698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4" descr="dec-prof_bf_RGB"/>
          <p:cNvPicPr/>
          <p:nvPr/>
        </p:nvPicPr>
        <p:blipFill>
          <a:blip r:embed="rId7"/>
          <a:stretch/>
        </p:blipFill>
        <p:spPr>
          <a:xfrm>
            <a:off x="7262640" y="1989000"/>
            <a:ext cx="1536840" cy="498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5" descr="ant_bf_RGB UKR blue"/>
          <p:cNvPicPr/>
          <p:nvPr/>
        </p:nvPicPr>
        <p:blipFill>
          <a:blip r:embed="rId8"/>
          <a:stretch/>
        </p:blipFill>
        <p:spPr>
          <a:xfrm>
            <a:off x="7135920" y="3276720"/>
            <a:ext cx="1681200" cy="296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7" descr="fli_bf_RGB UKR"/>
          <p:cNvPicPr/>
          <p:nvPr/>
        </p:nvPicPr>
        <p:blipFill>
          <a:blip r:embed="rId9"/>
          <a:stretch/>
        </p:blipFill>
        <p:spPr>
          <a:xfrm>
            <a:off x="6194520" y="6021360"/>
            <a:ext cx="1401840" cy="376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8" descr="nativo_bf_RGB UKR"/>
          <p:cNvPicPr/>
          <p:nvPr/>
        </p:nvPicPr>
        <p:blipFill>
          <a:blip r:embed="rId10"/>
          <a:stretch/>
        </p:blipFill>
        <p:spPr>
          <a:xfrm>
            <a:off x="7342200" y="4707000"/>
            <a:ext cx="1623960" cy="377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9" descr="fal_bt_RGB"/>
          <p:cNvPicPr/>
          <p:nvPr/>
        </p:nvPicPr>
        <p:blipFill>
          <a:blip r:embed="rId11"/>
          <a:stretch/>
        </p:blipFill>
        <p:spPr>
          <a:xfrm>
            <a:off x="7236000" y="5516640"/>
            <a:ext cx="1680840" cy="442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0" descr="mel_duo_bf_RGB UKR"/>
          <p:cNvPicPr/>
          <p:nvPr/>
        </p:nvPicPr>
        <p:blipFill>
          <a:blip r:embed="rId12"/>
          <a:stretch/>
        </p:blipFill>
        <p:spPr>
          <a:xfrm>
            <a:off x="5983200" y="4164120"/>
            <a:ext cx="1681200" cy="488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2" descr="tel_bf_RGB UKR"/>
          <p:cNvPicPr/>
          <p:nvPr/>
        </p:nvPicPr>
        <p:blipFill>
          <a:blip r:embed="rId13"/>
          <a:stretch/>
        </p:blipFill>
        <p:spPr>
          <a:xfrm>
            <a:off x="6443640" y="5226120"/>
            <a:ext cx="1498680" cy="290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5" descr="sca_bf"/>
          <p:cNvPicPr/>
          <p:nvPr/>
        </p:nvPicPr>
        <p:blipFill>
          <a:blip r:embed="rId14"/>
          <a:stretch/>
        </p:blipFill>
        <p:spPr>
          <a:xfrm>
            <a:off x="7710480" y="6165720"/>
            <a:ext cx="1203480" cy="519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6" descr="fli-sta_bf"/>
          <p:cNvPicPr/>
          <p:nvPr/>
        </p:nvPicPr>
        <p:blipFill>
          <a:blip r:embed="rId15"/>
          <a:stretch/>
        </p:blipFill>
        <p:spPr>
          <a:xfrm>
            <a:off x="6559560" y="3773520"/>
            <a:ext cx="2154240" cy="376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7" descr=""/>
          <p:cNvPicPr/>
          <p:nvPr/>
        </p:nvPicPr>
        <p:blipFill>
          <a:blip r:embed="rId16"/>
          <a:stretch/>
        </p:blipFill>
        <p:spPr>
          <a:xfrm>
            <a:off x="7093080" y="2637000"/>
            <a:ext cx="1751040" cy="475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50520" y="1218960"/>
            <a:ext cx="7931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Дата 3"/>
          <p:cNvSpPr/>
          <p:nvPr/>
        </p:nvSpPr>
        <p:spPr>
          <a:xfrm>
            <a:off x="582480" y="6380280"/>
            <a:ext cx="3918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 Narrow"/>
              </a:rPr>
              <a:t>Виноград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• Slide </a:t>
            </a:r>
            <a:fld id="{22E9D629-6C55-45EB-A443-713F6A8E0ECC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0" name="Picture 2" descr="E:\Vergeles\АГРОФАРМАКОЛОГІЯ\КАТАЛОГИ\2019\сингента\картинки\p185-001виногр.jpg"/>
          <p:cNvPicPr/>
          <p:nvPr/>
        </p:nvPicPr>
        <p:blipFill>
          <a:blip r:embed="rId1"/>
          <a:stretch/>
        </p:blipFill>
        <p:spPr>
          <a:xfrm>
            <a:off x="1547640" y="96840"/>
            <a:ext cx="5616720" cy="6688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50520" y="1218960"/>
            <a:ext cx="7931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Дата 3"/>
          <p:cNvSpPr/>
          <p:nvPr/>
        </p:nvSpPr>
        <p:spPr>
          <a:xfrm>
            <a:off x="582480" y="6380280"/>
            <a:ext cx="3918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 Narrow"/>
              </a:rPr>
              <a:t>Виноград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• Slide </a:t>
            </a:r>
            <a:fld id="{197E89DD-1BB9-4EBE-8BA7-6EF21EEB2EEE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4" name="Picture 2" descr="E:\Vergeles\АГРОФАРМАКОЛОГІЯ\КАТАЛОГИ\2019\басф\картинки 2017\p121-001виногр.jpg"/>
          <p:cNvPicPr/>
          <p:nvPr/>
        </p:nvPicPr>
        <p:blipFill>
          <a:blip r:embed="rId1"/>
          <a:stretch/>
        </p:blipFill>
        <p:spPr>
          <a:xfrm>
            <a:off x="360360" y="189000"/>
            <a:ext cx="8035920" cy="6029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50520" y="1218960"/>
            <a:ext cx="7931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Дата 3"/>
          <p:cNvSpPr/>
          <p:nvPr/>
        </p:nvSpPr>
        <p:spPr>
          <a:xfrm>
            <a:off x="582480" y="6380280"/>
            <a:ext cx="3918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 Narrow"/>
              </a:rPr>
              <a:t>Виноград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• Slide </a:t>
            </a:r>
            <a:fld id="{1C610D20-BFC0-447E-A04B-B67578B52CCB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8" name="Picture 2" descr="E:\Vergeles\АГРОФАРМАКОЛОГІЯ\КАТАЛОГИ\2019\кортева\виноградники.jpg"/>
          <p:cNvPicPr/>
          <p:nvPr/>
        </p:nvPicPr>
        <p:blipFill>
          <a:blip r:embed="rId1"/>
          <a:stretch/>
        </p:blipFill>
        <p:spPr>
          <a:xfrm>
            <a:off x="231840" y="836640"/>
            <a:ext cx="8912160" cy="5013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50520" y="1218960"/>
            <a:ext cx="7931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Дата 3"/>
          <p:cNvSpPr/>
          <p:nvPr/>
        </p:nvSpPr>
        <p:spPr>
          <a:xfrm>
            <a:off x="582480" y="6380280"/>
            <a:ext cx="3918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 Narrow"/>
              </a:rPr>
              <a:t>Виноград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• Slide </a:t>
            </a:r>
            <a:fld id="{D18E3F06-184F-4F70-9A20-57E0679A51FD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2" name="Picture 2" descr="E:\Vergeles\АГРОФАРМАКОЛОГІЯ\КАТАЛОГИ\2019\альфасмарт\vinograd.jpg"/>
          <p:cNvPicPr/>
          <p:nvPr/>
        </p:nvPicPr>
        <p:blipFill>
          <a:blip r:embed="rId1"/>
          <a:stretch/>
        </p:blipFill>
        <p:spPr>
          <a:xfrm>
            <a:off x="31680" y="907920"/>
            <a:ext cx="8853480" cy="4969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Дата 3"/>
          <p:cNvSpPr/>
          <p:nvPr/>
        </p:nvSpPr>
        <p:spPr>
          <a:xfrm>
            <a:off x="582480" y="6380280"/>
            <a:ext cx="3918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 Narrow"/>
              </a:rPr>
              <a:t>Виноград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• Slide </a:t>
            </a:r>
            <a:fld id="{88BEC963-6226-4857-90BE-C019341352D0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5" name="Picture 2" descr="E:\Vergeles\АГРОФАРМАКОЛОГІЯ\КАТАЛОГИ\2019\адама\картинки\p83-001виногр.jpg"/>
          <p:cNvPicPr/>
          <p:nvPr/>
        </p:nvPicPr>
        <p:blipFill>
          <a:blip r:embed="rId1"/>
          <a:stretch/>
        </p:blipFill>
        <p:spPr>
          <a:xfrm>
            <a:off x="324000" y="620640"/>
            <a:ext cx="7931160" cy="44798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BCS_Line_White_WMF"/>
          <p:cNvPicPr/>
          <p:nvPr/>
        </p:nvPicPr>
        <p:blipFill>
          <a:blip r:embed="rId1"/>
          <a:stretch/>
        </p:blipFill>
        <p:spPr>
          <a:xfrm>
            <a:off x="6269040" y="6308640"/>
            <a:ext cx="2335320" cy="417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Дата 4"/>
          <p:cNvSpPr/>
          <p:nvPr/>
        </p:nvSpPr>
        <p:spPr>
          <a:xfrm>
            <a:off x="582480" y="6380280"/>
            <a:ext cx="3918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 Narrow"/>
              </a:rPr>
              <a:t>Виноград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• Slide </a:t>
            </a:r>
            <a:fld id="{59424CAD-04FA-4BFA-A88F-6356FE2CBC83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Rectangle 25"/>
          <p:cNvSpPr/>
          <p:nvPr/>
        </p:nvSpPr>
        <p:spPr>
          <a:xfrm>
            <a:off x="0" y="5373720"/>
            <a:ext cx="9144000" cy="798480"/>
          </a:xfrm>
          <a:prstGeom prst="rect">
            <a:avLst/>
          </a:prstGeom>
          <a:solidFill>
            <a:srgbClr val="fd4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оротьба з бур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янам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179280" y="1773360"/>
            <a:ext cx="3672000" cy="32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90000"/>
              </a:lnSpc>
              <a:spcBef>
                <a:spcPts val="2251"/>
              </a:spcBef>
              <a:spcAft>
                <a:spcPts val="751"/>
              </a:spcAft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печність для батьківських рослин, коли застосовується обрізка молодих пагонів на виноградниках 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гідниках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6760" indent="-266760">
              <a:lnSpc>
                <a:spcPct val="90000"/>
              </a:lnSpc>
              <a:spcBef>
                <a:spcPts val="2251"/>
              </a:spcBef>
              <a:spcAft>
                <a:spcPts val="751"/>
              </a:spcAft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печність для молодих пагонів 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ітряних коренів 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лодих садах 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ноградниках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Rectangle 19"/>
          <p:cNvSpPr/>
          <p:nvPr/>
        </p:nvSpPr>
        <p:spPr>
          <a:xfrm>
            <a:off x="538200" y="1052640"/>
            <a:ext cx="252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4a03"/>
                </a:solidFill>
                <a:latin typeface="Arial"/>
              </a:rPr>
              <a:t>Переваги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6" name="Picture 27" descr="bas_bt_RGB-Ukr"/>
          <p:cNvPicPr/>
          <p:nvPr/>
        </p:nvPicPr>
        <p:blipFill>
          <a:blip r:embed="rId1"/>
          <a:stretch/>
        </p:blipFill>
        <p:spPr>
          <a:xfrm>
            <a:off x="6227640" y="0"/>
            <a:ext cx="2576520" cy="2576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8" descr="Basta"/>
          <p:cNvPicPr/>
          <p:nvPr/>
        </p:nvPicPr>
        <p:blipFill>
          <a:blip r:embed="rId2"/>
          <a:stretch/>
        </p:blipFill>
        <p:spPr>
          <a:xfrm>
            <a:off x="7020000" y="2997360"/>
            <a:ext cx="1933560" cy="28954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29"/>
          <p:cNvSpPr/>
          <p:nvPr/>
        </p:nvSpPr>
        <p:spPr>
          <a:xfrm>
            <a:off x="3851280" y="3854520"/>
            <a:ext cx="3311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50 г/л глюфосинату амонію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аковка: </a:t>
            </a:r>
            <a:r>
              <a:rPr b="1" lang="ru-RU" sz="1800" spc="-1" strike="noStrike">
                <a:solidFill>
                  <a:srgbClr val="fd4a03"/>
                </a:solidFill>
                <a:latin typeface="Arial"/>
              </a:rPr>
              <a:t>10 л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рма витрати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d4a03"/>
                </a:solidFill>
                <a:latin typeface="Arial"/>
              </a:rPr>
              <a:t>2,5</a:t>
            </a:r>
            <a:r>
              <a:rPr b="1" lang="en-US" sz="1800" spc="-1" strike="noStrike">
                <a:solidFill>
                  <a:srgbClr val="fd4a03"/>
                </a:solidFill>
                <a:latin typeface="Arial"/>
              </a:rPr>
              <a:t>-</a:t>
            </a:r>
            <a:r>
              <a:rPr b="1" lang="uk-UA" sz="1800" spc="-1" strike="noStrike">
                <a:solidFill>
                  <a:srgbClr val="fd4a03"/>
                </a:solidFill>
                <a:latin typeface="Arial"/>
              </a:rPr>
              <a:t>3,0</a:t>
            </a:r>
            <a:r>
              <a:rPr b="1" lang="ru-RU" sz="1800" spc="-1" strike="noStrike">
                <a:solidFill>
                  <a:srgbClr val="fd4a03"/>
                </a:solidFill>
                <a:latin typeface="Arial"/>
              </a:rPr>
              <a:t> л/га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Дата 3"/>
          <p:cNvSpPr/>
          <p:nvPr/>
        </p:nvSpPr>
        <p:spPr>
          <a:xfrm>
            <a:off x="582480" y="6380280"/>
            <a:ext cx="3918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 Narrow"/>
              </a:rPr>
              <a:t>Виноград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• Slide </a:t>
            </a:r>
            <a:fld id="{2925C5AF-2329-4AE4-9CF9-123FA182D688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0" y="5373720"/>
            <a:ext cx="9144000" cy="798480"/>
          </a:xfrm>
          <a:prstGeom prst="rect">
            <a:avLst/>
          </a:prstGeom>
          <a:solidFill>
            <a:srgbClr val="009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оротьба з шкідникам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320040" y="1197000"/>
            <a:ext cx="3574800" cy="14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пелиці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онова листовійк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стова форма філоксери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132000" y="3213000"/>
            <a:ext cx="355464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 г/л імідаклоприду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аковка: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0,5 л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рма витрати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0,15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-0,20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л/га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рмін очікування: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20 днів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4" name="Picture 20" descr="con_bt_RGB-UKR"/>
          <p:cNvPicPr/>
          <p:nvPr/>
        </p:nvPicPr>
        <p:blipFill>
          <a:blip r:embed="rId1"/>
          <a:stretch/>
        </p:blipFill>
        <p:spPr>
          <a:xfrm>
            <a:off x="6227640" y="0"/>
            <a:ext cx="2576520" cy="2576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1" descr="Confidor"/>
          <p:cNvPicPr/>
          <p:nvPr/>
        </p:nvPicPr>
        <p:blipFill>
          <a:blip r:embed="rId2"/>
          <a:stretch/>
        </p:blipFill>
        <p:spPr>
          <a:xfrm>
            <a:off x="7236000" y="2781360"/>
            <a:ext cx="144144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Дата 3"/>
          <p:cNvSpPr/>
          <p:nvPr/>
        </p:nvSpPr>
        <p:spPr>
          <a:xfrm>
            <a:off x="582480" y="6380280"/>
            <a:ext cx="3918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 Narrow"/>
              </a:rPr>
              <a:t>Виноград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• Slide </a:t>
            </a:r>
            <a:fld id="{A923C901-B128-40B6-BB14-FB84559A567C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0" y="5373720"/>
            <a:ext cx="9144000" cy="798480"/>
          </a:xfrm>
          <a:prstGeom prst="rect">
            <a:avLst/>
          </a:prstGeom>
          <a:solidFill>
            <a:srgbClr val="009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оротьба з шкідникам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25080" y="836640"/>
            <a:ext cx="320436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онова листовійка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елиці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3785760" y="3213000"/>
            <a:ext cx="2964960" cy="19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50 г/л дельтаметрину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аковка: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0,6 кг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рма витрати: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30-50 г/га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рмін очікування: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20 днів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1" name="Picture 38" descr="dec-prof_bt_RGB-UKR"/>
          <p:cNvPicPr/>
          <p:nvPr/>
        </p:nvPicPr>
        <p:blipFill>
          <a:blip r:embed="rId1"/>
          <a:stretch/>
        </p:blipFill>
        <p:spPr>
          <a:xfrm>
            <a:off x="6156360" y="0"/>
            <a:ext cx="2584440" cy="2584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9" descr="decis"/>
          <p:cNvPicPr/>
          <p:nvPr/>
        </p:nvPicPr>
        <p:blipFill>
          <a:blip r:embed="rId2"/>
          <a:stretch/>
        </p:blipFill>
        <p:spPr>
          <a:xfrm>
            <a:off x="7378560" y="2649600"/>
            <a:ext cx="1370160" cy="3371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0" descr=""/>
          <p:cNvPicPr/>
          <p:nvPr/>
        </p:nvPicPr>
        <p:blipFill>
          <a:blip r:embed="rId3"/>
          <a:stretch/>
        </p:blipFill>
        <p:spPr>
          <a:xfrm>
            <a:off x="0" y="3381480"/>
            <a:ext cx="2987640" cy="1987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1" descr=""/>
          <p:cNvPicPr/>
          <p:nvPr/>
        </p:nvPicPr>
        <p:blipFill>
          <a:blip r:embed="rId4"/>
          <a:stretch/>
        </p:blipFill>
        <p:spPr>
          <a:xfrm>
            <a:off x="0" y="1700280"/>
            <a:ext cx="2987640" cy="2138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Дата 4"/>
          <p:cNvSpPr/>
          <p:nvPr/>
        </p:nvSpPr>
        <p:spPr>
          <a:xfrm>
            <a:off x="582480" y="6380280"/>
            <a:ext cx="3918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 Narrow"/>
              </a:rPr>
              <a:t>Виноград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• Slide </a:t>
            </a:r>
            <a:fld id="{61C576D3-31AA-4A3A-B7EA-0220AB966AB1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6" name="Picture 16" descr=""/>
          <p:cNvPicPr/>
          <p:nvPr/>
        </p:nvPicPr>
        <p:blipFill>
          <a:blip r:embed="rId1"/>
          <a:stretch/>
        </p:blipFill>
        <p:spPr>
          <a:xfrm>
            <a:off x="2195640" y="3429000"/>
            <a:ext cx="2305080" cy="22683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отьба з шкідникам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0" y="5373720"/>
            <a:ext cx="9144000" cy="7984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238320" y="907920"/>
            <a:ext cx="340992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вутинний кліщ,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рвоний плодовий кліщ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ноградний зудень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992480" y="3279600"/>
            <a:ext cx="302904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40 г/л спіродиклофену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аковка: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1,0 л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рма витрати: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0,</a:t>
            </a:r>
            <a:r>
              <a:rPr b="1" lang="uk-UA" sz="18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-0,</a:t>
            </a:r>
            <a:r>
              <a:rPr b="1" lang="uk-UA" sz="18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л/га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рмін очікування: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20 днів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1" name="Picture 6" descr="con_bt_RGB-UKR"/>
          <p:cNvPicPr/>
          <p:nvPr/>
        </p:nvPicPr>
        <p:blipFill>
          <a:blip r:embed="rId2"/>
          <a:stretch/>
        </p:blipFill>
        <p:spPr>
          <a:xfrm>
            <a:off x="6227640" y="0"/>
            <a:ext cx="2576520" cy="2576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"/>
          <p:cNvPicPr/>
          <p:nvPr/>
        </p:nvPicPr>
        <p:blipFill>
          <a:blip r:embed="rId3"/>
          <a:stretch/>
        </p:blipFill>
        <p:spPr>
          <a:xfrm>
            <a:off x="6227640" y="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" descr="Confidor"/>
          <p:cNvPicPr/>
          <p:nvPr/>
        </p:nvPicPr>
        <p:blipFill>
          <a:blip r:embed="rId4"/>
          <a:stretch/>
        </p:blipFill>
        <p:spPr>
          <a:xfrm>
            <a:off x="7763040" y="2637000"/>
            <a:ext cx="1488960" cy="31701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3"/>
          <p:cNvSpPr/>
          <p:nvPr/>
        </p:nvSpPr>
        <p:spPr>
          <a:xfrm>
            <a:off x="8128080" y="4125960"/>
            <a:ext cx="846000" cy="243720"/>
          </a:xfrm>
          <a:prstGeom prst="rect">
            <a:avLst/>
          </a:prstGeom>
          <a:solidFill>
            <a:srgbClr val="024a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" spc="-1" strike="noStrike">
                <a:solidFill>
                  <a:srgbClr val="ffffff"/>
                </a:solidFill>
                <a:latin typeface="Arial"/>
              </a:rPr>
              <a:t>Е Н В І Д О Р</a:t>
            </a:r>
            <a:r>
              <a:rPr b="1" lang="en-US" sz="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®</a:t>
            </a:r>
            <a:br>
              <a:rPr sz="800"/>
            </a:b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Envidor </a:t>
            </a:r>
            <a:r>
              <a:rPr b="1" lang="en-US" sz="800" spc="-1" strike="noStrike" baseline="30000">
                <a:solidFill>
                  <a:srgbClr val="ffffff"/>
                </a:solidFill>
                <a:latin typeface="Arial Narrow"/>
              </a:rPr>
              <a:t>®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 240 SL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5" name="Picture 15" descr=""/>
          <p:cNvPicPr/>
          <p:nvPr/>
        </p:nvPicPr>
        <p:blipFill>
          <a:blip r:embed="rId5"/>
          <a:stretch/>
        </p:blipFill>
        <p:spPr>
          <a:xfrm>
            <a:off x="0" y="3673440"/>
            <a:ext cx="2268360" cy="170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7" descr=""/>
          <p:cNvPicPr/>
          <p:nvPr/>
        </p:nvPicPr>
        <p:blipFill>
          <a:blip r:embed="rId6"/>
          <a:stretch/>
        </p:blipFill>
        <p:spPr>
          <a:xfrm>
            <a:off x="2124000" y="2162160"/>
            <a:ext cx="2376720" cy="1550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Tetranychus1"/>
          <p:cNvPicPr/>
          <p:nvPr/>
        </p:nvPicPr>
        <p:blipFill>
          <a:blip r:embed="rId7"/>
          <a:stretch/>
        </p:blipFill>
        <p:spPr>
          <a:xfrm>
            <a:off x="0" y="2133720"/>
            <a:ext cx="2268360" cy="1592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Дата 3"/>
          <p:cNvSpPr/>
          <p:nvPr/>
        </p:nvSpPr>
        <p:spPr>
          <a:xfrm>
            <a:off x="582480" y="6380280"/>
            <a:ext cx="3918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 Narrow"/>
              </a:rPr>
              <a:t>Виноград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• Slide </a:t>
            </a:r>
            <a:fld id="{01FD2CE0-82D5-46A0-9740-9CE8C33FB6A5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ваг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14000" y="1235160"/>
            <a:ext cx="6705720" cy="22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Новий хімічний клас – інгібітори синтезу ліпід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пектр ураження – всі види рослинноїдних кліщ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Ефективність проти всіх фаз життєвого циклу шкід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ідсутність резистент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Безпечний для хижіх кліщів і корисних ком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468360" y="4581360"/>
            <a:ext cx="67057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1080" indent="-181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f99b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2b"/>
                </a:solidFill>
                <a:latin typeface="Arial"/>
              </a:rPr>
              <a:t>Обробку бажано проводити проти першої генерації шкідник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81080" indent="-181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f99b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2b"/>
                </a:solidFill>
                <a:latin typeface="Arial"/>
              </a:rPr>
              <a:t>Використовувати найбільшу кулькість робочого розчину, що її здатні утримати рослини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52" name="Group 5"/>
          <p:cNvGrpSpPr/>
          <p:nvPr/>
        </p:nvGrpSpPr>
        <p:grpSpPr>
          <a:xfrm>
            <a:off x="6948360" y="1486080"/>
            <a:ext cx="1986120" cy="4464000"/>
            <a:chOff x="6948360" y="1486080"/>
            <a:chExt cx="1986120" cy="4464000"/>
          </a:xfrm>
        </p:grpSpPr>
        <p:pic>
          <p:nvPicPr>
            <p:cNvPr id="153" name="Picture 6" descr="Confidor"/>
            <p:cNvPicPr/>
            <p:nvPr/>
          </p:nvPicPr>
          <p:blipFill>
            <a:blip r:embed="rId1"/>
            <a:stretch/>
          </p:blipFill>
          <p:spPr>
            <a:xfrm>
              <a:off x="6948360" y="1486080"/>
              <a:ext cx="1986120" cy="44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7"/>
            <p:cNvSpPr/>
            <p:nvPr/>
          </p:nvSpPr>
          <p:spPr>
            <a:xfrm>
              <a:off x="7451640" y="3598920"/>
              <a:ext cx="1008000" cy="335160"/>
            </a:xfrm>
            <a:prstGeom prst="rect">
              <a:avLst/>
            </a:prstGeom>
            <a:solidFill>
              <a:srgbClr val="024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Е Н В І Д О Р</a:t>
              </a:r>
              <a:r>
                <a:rPr b="1" lang="en-US" sz="12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®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Envidor </a:t>
              </a:r>
              <a:r>
                <a:rPr b="1" lang="en-US" sz="1000" spc="-1" strike="noStrike" baseline="30000">
                  <a:solidFill>
                    <a:srgbClr val="ffffff"/>
                  </a:solidFill>
                  <a:latin typeface="Arial Narrow"/>
                </a:rPr>
                <a:t>®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240 SL</a:t>
              </a:r>
              <a:endParaRPr b="0" lang="en-US" sz="1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Дата 3"/>
          <p:cNvSpPr/>
          <p:nvPr/>
        </p:nvSpPr>
        <p:spPr>
          <a:xfrm>
            <a:off x="582480" y="6380280"/>
            <a:ext cx="3918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 Narrow"/>
              </a:rPr>
              <a:t>Виноград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• Slide </a:t>
            </a:r>
            <a:fld id="{90FC0E92-E4FE-45A0-9A11-045EBCE94014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Rectangle 15"/>
          <p:cNvSpPr/>
          <p:nvPr/>
        </p:nvSpPr>
        <p:spPr>
          <a:xfrm>
            <a:off x="0" y="5373720"/>
            <a:ext cx="9144000" cy="7984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оротьба проти хвороб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250920" y="1125360"/>
            <a:ext cx="308556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ілдью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орна плямистість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ракноз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9" name="Picture 17" descr="Antracnoz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91960" y="4292640"/>
            <a:ext cx="2408400" cy="1647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8" descr="Mildiu_vin"/>
          <p:cNvPicPr/>
          <p:nvPr/>
        </p:nvPicPr>
        <p:blipFill>
          <a:blip r:embed="rId2"/>
          <a:stretch/>
        </p:blipFill>
        <p:spPr>
          <a:xfrm>
            <a:off x="291960" y="2781360"/>
            <a:ext cx="2408400" cy="15732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8"/>
          <p:cNvSpPr/>
          <p:nvPr/>
        </p:nvSpPr>
        <p:spPr>
          <a:xfrm>
            <a:off x="3851280" y="2781360"/>
            <a:ext cx="3311640" cy="24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00 г/к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пінебу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аковка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15 кг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рма витрати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1,5 кг/га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ількість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обок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рмін очікування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30 днів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2" name="Picture 29" descr="ant_bt_RGB-UKR"/>
          <p:cNvPicPr/>
          <p:nvPr/>
        </p:nvPicPr>
        <p:blipFill>
          <a:blip r:embed="rId3"/>
          <a:stretch/>
        </p:blipFill>
        <p:spPr>
          <a:xfrm>
            <a:off x="6227640" y="0"/>
            <a:ext cx="2576520" cy="25765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1" descr="IMG_4428"/>
          <p:cNvPicPr/>
          <p:nvPr/>
        </p:nvPicPr>
        <p:blipFill>
          <a:blip r:embed="rId4"/>
          <a:stretch/>
        </p:blipFill>
        <p:spPr>
          <a:xfrm>
            <a:off x="7164360" y="2852640"/>
            <a:ext cx="1800360" cy="3084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Дата 3"/>
          <p:cNvSpPr/>
          <p:nvPr/>
        </p:nvSpPr>
        <p:spPr>
          <a:xfrm>
            <a:off x="582480" y="6380280"/>
            <a:ext cx="3918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 Narrow"/>
              </a:rPr>
              <a:t>Виноград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• Slide </a:t>
            </a:r>
            <a:fld id="{42405372-3B1E-4C3E-976A-8B073CAE0D2D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еваг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280" y="1304640"/>
            <a:ext cx="54723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-325800">
              <a:spcBef>
                <a:spcPts val="300"/>
              </a:spcBef>
              <a:spcAft>
                <a:spcPts val="1199"/>
              </a:spcAft>
              <a:buClr>
                <a:srgbClr val="00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Відмінна здатність до змочування та прилип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spcAft>
                <a:spcPts val="1199"/>
              </a:spcAft>
              <a:buClr>
                <a:srgbClr val="00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Захист від резистентних форм патогенів (контактний фунгіцид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spcAft>
                <a:spcPts val="1199"/>
              </a:spcAft>
              <a:buClr>
                <a:srgbClr val="00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Листове добриво (цинк в Антраколі дуже добре поглинається рослина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spcAft>
                <a:spcPts val="1199"/>
              </a:spcAft>
              <a:buClr>
                <a:srgbClr val="00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Хороше співвідношення ціни та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якості препа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spcAft>
                <a:spcPts val="1199"/>
              </a:spcAft>
              <a:buClr>
                <a:srgbClr val="00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Чудовий препарат для чергування обробок фунгіцид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IMG_4428"/>
          <p:cNvPicPr/>
          <p:nvPr/>
        </p:nvPicPr>
        <p:blipFill>
          <a:blip r:embed="rId1"/>
          <a:stretch/>
        </p:blipFill>
        <p:spPr>
          <a:xfrm>
            <a:off x="6372360" y="1700280"/>
            <a:ext cx="24303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7T09:33:02Z</dcterms:created>
  <dc:creator>GF</dc:creator>
  <dc:description/>
  <cp:keywords>Фалькон фунгициды зерновые свекла виноград</cp:keywords>
  <dc:language>en-US</dc:language>
  <cp:lastModifiedBy>Ноут_кафедра</cp:lastModifiedBy>
  <cp:lastPrinted>2002-09-26T19:16:46Z</cp:lastPrinted>
  <dcterms:modified xsi:type="dcterms:W3CDTF">2019-04-17T06:07:27Z</dcterms:modified>
  <cp:revision>689</cp:revision>
  <dc:subject>Fungicide</dc:subject>
  <dc:title>2005 FALC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61f000000000001023700</vt:lpwstr>
  </property>
</Properties>
</file>