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FEB-92EA-49BF-B819-6EE68D87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0B60-6ADE-46C9-BB57-CB0DF9F1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C21-4891-473E-848F-5A8865EC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243-0493-45D9-99C3-329C1443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DCDB-36B1-4B5A-9D9D-D5E01435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A53A-8564-40CD-8B15-C0BEFE4F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2188-2BD6-446D-8E29-B8032109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1747-15F6-40C1-B7CD-4C9CC480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4817-BC3A-4417-9BA4-A1A5D308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0C34-D430-48B2-9A9F-65C6FAE1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5525-104D-4934-BA46-EA305E36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CD0-2AA5-434F-8026-BF05BDE0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6DE5-44A8-420D-8B5E-18C8CA47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9140-174F-4A9B-90DC-6279258A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A39D-49F2-49D3-8CB9-FCDFE040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C4DA-5486-4B04-B4EC-A9296632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02EB-20F3-4291-9686-B4D4A7AA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DD4-4003-4658-BDD8-0D5B6E3D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F2C-83CD-4B32-897C-940A9741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2AE7-48FE-450B-8CAD-235701F2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D6E6-2416-488B-B339-DEFFC219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2698-9FD1-47F4-B474-BE09A32D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BF7-A0D0-447A-9452-929AE969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965-823C-4F81-B3B3-A830D600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BCDC-43D0-48C6-B05C-654EA6A21F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0C5D-CE52-42E0-B8C5-46C3318571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e941c"/>
                </a:solidFill>
                <a:latin typeface="Arial"/>
              </a:rPr>
              <a:t>ТЕМА № 1</a:t>
            </a:r>
            <a:br>
              <a:rPr sz="4000"/>
            </a:br>
            <a:r>
              <a:rPr b="1" lang="uk-UA" sz="4000" spc="-1" strike="noStrike">
                <a:solidFill>
                  <a:srgbClr val="ee941c"/>
                </a:solidFill>
                <a:latin typeface="Arial"/>
              </a:rPr>
              <a:t>Вступ. Державна мова – мова професійного спілкуванн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6000" y="1989000"/>
            <a:ext cx="7128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cc99"/>
                </a:solidFill>
                <a:latin typeface="Arial"/>
              </a:rPr>
              <a:t>Роль мови в житті суспільства. Суспільні функції мови. Поняття національної та літературної мо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cc99"/>
                </a:solidFill>
                <a:latin typeface="Arial"/>
              </a:rPr>
              <a:t>Українська мова – державна мова України, національна мова українського народу. Мови світу і місце серед них української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cc99"/>
                </a:solidFill>
                <a:latin typeface="Arial"/>
              </a:rPr>
              <a:t>Українська мова та історія. Походження української мови. Традиційні та сучасні теорії щодо походження української мови. Автохтонність українці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ee94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ee941c"/>
                </a:solidFill>
                <a:latin typeface="Arial"/>
              </a:rPr>
              <a:t>Роль мови в житті суспільства. Суспільні функції мови. Поняття національної та літературної мови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Мова – знакова система фонем, морфем, слів, словосполучень і речень, яка служить не лише засобом комунікації, обміну думок, їх закріплення, а й засобом їх формування, адже мислення відбувається на мовній основі, а мова нормативна завжди осмисле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e941c"/>
                </a:solidFill>
                <a:latin typeface="Arial"/>
              </a:rPr>
              <a:t>Функції мов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4064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uk-UA" sz="2400" spc="-1" strike="noStrike">
                <a:solidFill>
                  <a:srgbClr val="ff0066"/>
                </a:solidFill>
                <a:latin typeface="Arial"/>
              </a:rPr>
              <a:t>Комунікативна функція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йуніверсальніший  засіб спілкування, сприймання навколишнього світу та перетворення його у людській свідомості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i="1" lang="uk-UA" sz="2400" spc="-1" strike="noStrike">
                <a:solidFill>
                  <a:srgbClr val="ff0066"/>
                </a:solidFill>
                <a:latin typeface="Arial"/>
              </a:rPr>
              <a:t>Експресивна функція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– засіб відтворення внутрішнього світу людини. Кожен  постає перед людьми як особистість, має змогу репрезентувати свій внутрішній сві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uk-UA" sz="2400" spc="-1" strike="noStrike">
                <a:solidFill>
                  <a:srgbClr val="ff0066"/>
                </a:solidFill>
                <a:latin typeface="Arial"/>
              </a:rPr>
              <a:t>Гносеологічна функція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– могутній засіб пізнання навколишнього світу. Людина ніколи не пізнає світ «з нуля» – вона користується не лише індивідуальним досвідом, а й суспільним, який закодовано в мов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4.   </a:t>
            </a:r>
            <a:r>
              <a:rPr b="1" i="1" lang="uk-UA" sz="2400" spc="-1" strike="noStrike">
                <a:solidFill>
                  <a:srgbClr val="ff0066"/>
                </a:solidFill>
                <a:latin typeface="Arial"/>
              </a:rPr>
              <a:t>Мислетворча функція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– це засіб формування, оформлення й існування думки. Як зазначав Ортега-і-Гассет, «ми не лише говоримо якоюсь мовою, ми думаємо, ковзаючи вже прокладеною колією, на яку ставить нас мовна доля». Отже, найкращим засобом вираження думки є рідна м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4064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Ідентифікаційна функція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Мова є засобом ідентифікації, ототожнення особи в межах певної людської спільноти, засобом об’єднання людей у народ, націю, засобом консолідації населення в державі. Цю функцію мови іноді називають державотворчо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Естетична функція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засіб вираження і виховання прекрасного. Глінц писав, - одне слово може стати  витвором мистецтва. Якщо ж правильно побудовано процес спілкування, він може стати джерелом естетичної насолод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Номінативна функція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функція називання, усе пізнане людиною в світі дістає назву і зберігається у людській свідомост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Культуроносна функція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мова є носієм культури. Через мову відбувається передача культурних цінностей від народу до народу, від покоління до поколін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ee941c"/>
                </a:solidFill>
                <a:latin typeface="Arial"/>
              </a:rPr>
              <a:t>2. Українська мова – державна мова України, національна мова українського народу. Мови світу і місце серед них української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Державна мов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це офіційно проголошена законодавчою владою мова сфери офіційного спілкування, мова спілкування держави з її громадянами і навпаки (мова всіх гілок державної влади (законодавчої, виконавчої, судової, засобів масової інформації, освіти, культури, науки, документації і т.д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Національна мов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українського народу – українська. Правовий статус української мови в Україні сьогодні  визначає  Конституція України, прийнята Верховною Радою 28 червня 1996 року. У статті 10 Конституції записано: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«Державною мовою в Україні є українська мова. Держава забезпечує всебічний розвиток і функціонування української мови в усіх сферах суспільного життя на всій території України».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396280" cy="59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На позначення мови, що виконує роль державної, уживають також терміни «офіційна мова», «національна мова» або просто «мова певної держави».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Загалом у зарубіжному законодавстві переважає термін «офіційна мова», а в останні роки цей термін часто використовується і в Україні, тому слід чіткіше окреслити його зміст. В юридичному аспекті поняття «офіційна мова» близьке до поняття «державна мова». Відмінність між ними полягає лише в тому, що для статусу державної мови обов’язковим є його офіційне законодавче закріплення, відповідне нормативне оформлення, у той час як статус офіційної мови не передбачає обов’язкового проголошення законодавчою владою. За загальноприйнятою світовою практикою, є такі критерії затвердження мови у функції державної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1) мова корінної нації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2) мова найчисленнішої нації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Відповідно до першого критерію, статус державної в Україні може бути наданий українській мові та кримськотатарській (у Криму); за другим – лише українській. Відповідно до останнього критерію, країна, у якій 70% становлять представники однієї нації, вважається мононаціональною. Якщо взяти до уваги дані останнього перепису, то Україну слід зарахувати саме до таких країн. Таким чином, затвердження в Україні у функції державної української мови цілком відповідає загальновизнаним світовим стандарта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а сьогодні у світі існує від 2,5 до 7 тисяч мов, за найновішими даними – 6703 мови. За кількістю мовців найпоширенішими мовами вважають китайську (1200000000 мовців), іспанську (332000000), англійську (330000000), бенгальську, гінді, арабську, російську, португальську, японську, німецьку мови; українська за цією ознакою перебуває на 21 місці: нею користується  від 42 до 50 мільйонів людей у світі (в Україні, у східній і західній діаспорі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За давністю писемності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українська належить до старописемних мов: її писемності понад тисячу рок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За призначенням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країнська мова – національна мова українського народу, державна мова Украї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За генеалогічною класифікацією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(походженням) українська мова належить до східної підгрупи слов’янської групи індоєвропейської мовної сім’ї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ee941c"/>
                </a:solidFill>
                <a:latin typeface="Arial"/>
              </a:rPr>
              <a:t>3. Українська мова та історія. Походження української мови. Традиційні та сучасні теорії щодо походження української мови. Автохтонність українців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Генеалогічно українська мова належить до індоєвропейської мовної східнослов'янської підгрупи слов'янської групи мов. Історію української мови починають від праслов’янської (спільнослов'янської) мовної єдності, яка виділилася з індоєвропейської прамови приблизно в ІІІ тис. до н. е. Праслов'янська доба тривала близько 2000 рок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а традиційною версією походження східнослов'янських мов, яка ще донедавна була офіційною та обов'язковою, вважалося, що після завершення праслов'янської епохи розпочався спільний східнослов'янський період, який тривав понад 500 років та закінчився лише в XI-XII ст. під час феодальної роздрібненості Київської Русі. У цей час нібито сформувалася й спільна для всіх східних слов'ян так звана давньоруська мова, на основі якої з XIII ст. виникають три східнослов'янські мови — українська, російська та білоруська — як мови відповідних народностей. Такий підхід базувався здебільшого на низці ідеологічних настанов спочатку доби царської Росії, а згодом радянської епох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Сучасний рівень лінгвістичних, археологічних та історичних знань, а також можливість відходу від усталених ідеологічних догм дають змогу внести в цю схему істотні коректи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e941c"/>
                </a:solidFill>
                <a:latin typeface="Arial"/>
              </a:rPr>
              <a:t>Індоєвропейська родина мов</a:t>
            </a:r>
            <a:br>
              <a:rPr sz="2400"/>
            </a:br>
            <a:r>
              <a:rPr b="0" lang="uk-UA" sz="2400" spc="-1" strike="noStrike">
                <a:solidFill>
                  <a:srgbClr val="ee941c"/>
                </a:solidFill>
                <a:latin typeface="Arial"/>
              </a:rPr>
              <a:t>Групи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Індійсь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гінді, урду, бенгалі, марахті, орія, циганська та і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Ірансь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осетинська, таджицька, курдська, памірські, афгансь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Слов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янсь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поділяється на підгруп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ffcc00"/>
                </a:solidFill>
                <a:latin typeface="Arial"/>
              </a:rPr>
              <a:t>східнослов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ffcc00"/>
                </a:solidFill>
                <a:latin typeface="Arial"/>
              </a:rPr>
              <a:t>янсь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українська, російська, білорусь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ffcc00"/>
                </a:solidFill>
                <a:latin typeface="Arial"/>
              </a:rPr>
              <a:t>західнослов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ffcc00"/>
                </a:solidFill>
                <a:latin typeface="Arial"/>
              </a:rPr>
              <a:t>янсь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польська, чеська, словацька, лужицька, кашубсь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ffcc00"/>
                </a:solidFill>
                <a:latin typeface="Arial"/>
              </a:rPr>
              <a:t>південнослов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ffcc00"/>
                </a:solidFill>
                <a:latin typeface="Arial"/>
              </a:rPr>
              <a:t>янсь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болгарська, македонська, сербська, хорватська, словенсь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Германська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– німецька, англійська, шведська, данська та і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Романська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– французька, португальська, італійська, іспанська та і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Балтійсь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литовська, латиська, мертва прусь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Грець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давньогрецька і візантійська мертві, новогрецька сучас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Кельтсь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ірландська, валлійська, бретонсь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studentguide"/>
          <p:cNvPicPr/>
          <p:nvPr/>
        </p:nvPicPr>
        <p:blipFill>
          <a:blip r:embed="rId1"/>
          <a:stretch/>
        </p:blipFill>
        <p:spPr>
          <a:xfrm>
            <a:off x="709308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Администратор</cp:lastModifiedBy>
  <dcterms:modified xsi:type="dcterms:W3CDTF">2021-09-26T11:19:4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