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C3A-CD3D-49CE-A142-0B71C145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113-562D-4E08-B213-9A3EF379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107-51DD-4C51-9C2F-AD8D799C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448-2543-46D6-88A9-1ED5C90E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DB43-545D-401D-8FD0-918EACF4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796A-FD28-4095-A367-F4BE1571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4377-0830-411A-9AF5-CB2BB362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BA98-151F-4C47-9C54-5B0E5A6E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854B-75BE-4A8F-BF9A-DF7BFF3A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2BFD-42C7-46A2-80BE-26B024B0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9088-0212-4FAA-96FE-2FC88B57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5B0-B139-4556-920B-910BE3CF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EB24-4FFA-4549-95C4-2DB69DE2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2487-83A9-4CDB-83CF-4DD22D15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5381-2893-4319-A67F-811FA2B4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86E5-E674-40B1-ADB8-F5A7F839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2466-4D74-4B54-A961-5E32BAB4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1CF-2275-486D-AA00-87CE4D72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AB6-1D6E-494D-BD52-126DAECE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1DF-A521-4DA1-8855-15940F7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D37-871E-4B5B-89FE-DD58DC58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EE1-8102-47B6-A49B-5F7B596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9E3-7BD5-48B3-9AA2-502AF630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B37-3545-41F7-B852-22ED7583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9DC3-FCF7-481A-A8EA-CEEA6386B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5F93-D8E3-4678-9CDC-E5EFFA367F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ТЕМА № 2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 Статус української мови як державної у світлі Закону </a:t>
            </a:r>
            <a:r>
              <a:rPr b="0" lang="uk-UA" sz="2000" spc="-1" strike="noStrike">
                <a:solidFill>
                  <a:srgbClr val="b7e7ff"/>
                </a:solidFill>
                <a:latin typeface="Arial"/>
              </a:rPr>
              <a:t>«Про засади мовної політики…» </a:t>
            </a: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 та Конституції України </a:t>
            </a:r>
            <a:br>
              <a:rPr sz="2000"/>
            </a:br>
            <a:r>
              <a:rPr b="1" lang="uk-UA" sz="2000" spc="-1" strike="noStrike" u="sng">
                <a:solidFill>
                  <a:srgbClr val="ee941c"/>
                </a:solidFill>
                <a:uFillTx/>
                <a:latin typeface="Arial"/>
              </a:rPr>
              <a:t>Автобіографія.</a:t>
            </a:r>
            <a:r>
              <a:rPr b="1" lang="uk-UA" sz="2000" spc="-1" strike="noStrike">
                <a:solidFill>
                  <a:srgbClr val="ee941c"/>
                </a:solidFill>
                <a:latin typeface="Arial"/>
              </a:rPr>
              <a:t> </a:t>
            </a:r>
            <a:r>
              <a:rPr b="1" lang="uk-UA" sz="2000" spc="-1" strike="noStrike" u="sng">
                <a:solidFill>
                  <a:srgbClr val="ee941c"/>
                </a:solidFill>
                <a:uFillTx/>
                <a:latin typeface="Arial"/>
              </a:rPr>
              <a:t>Резюме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8255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ова професійного спілкування як функціональний різновид української літературної мов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фесійна мовнокомунікативна компетенці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овне законодавство та мовна політика в Україні.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1. Мова професійного спілкування як функціональний різновид української літературної мови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Мова професійного спілкування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як різновид літературної мови виявляється в офіційно-діловому стилі, в основному в його адміністративно-канцелярському різновиді, який має писемну й усну форми вжива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сторично цей стиль базується на документах доби Київської Русі та адміністрації Великого князівства Литовського, на юридичних актах міських урядів (XV – XVII ст.), на документах гетьманських канцелярій, має лексико-синтаксичний вплив російської канцелярії та мови австро-угорських і польських канцелярі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 рівні лексики в основі ділової української мови лежать загальнозрозуміла, нейтральна, нормована, так звана книжна, міжстильова лексика, відповідно термінологія та професійно-виробнича лексика; відтінок книжності мають слова з абстрактним значенням (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виконання, дозволяється, розробляється, посвідченн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дієслова (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здійснювати, надіслати, призначит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, вмотивовані слова (що відповідають змісту документа); іншомовні слова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(за доцільністю вживанн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; на рівні словоформ – вибір найточнішої граматичної форми слова (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з погляду відмінків – прізвища, звертання),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живання роду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 (назви посад, професій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 і числа; написання числівників, вживання відповідних займенників (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Ви, м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 та відповідних форм дієслів (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інфінітиву, першої та третьої особи теперішнього часу, наказового способу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; на рівні синтаксису документ в основному має розповідний характер, отже, вимагає розповідних поширених речень, найчастіше простих з прямим порядком слів, у деяких документах (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контрактах, договорах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 – складних речень з умовними, причиновими підрядними реченнями; можливі інфінітивні конструкції та вживання розщепленого присудка (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зробити огляд, провести операцію, давати вказівк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; важливим є вибір прийменника у синтаксичних конструкціях (</a:t>
            </a:r>
            <a:r>
              <a:rPr b="0" i="1" lang="uk-UA" sz="2000" spc="-1" strike="noStrike">
                <a:solidFill>
                  <a:srgbClr val="ff0066"/>
                </a:solidFill>
                <a:latin typeface="Arial"/>
              </a:rPr>
              <a:t>відповідно до, згідно з...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) і т. і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e941c"/>
                </a:solidFill>
                <a:latin typeface="Arial"/>
              </a:rPr>
              <a:t>2. Професійна мовнокомунікативна компетенція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Професійна мовнокомунікативна компетентність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це вміння здійснювати мовленнєвий акт, де реалізується професійна комунікативно-мовленнєва поведінка на основі фонологічних, лексико-граматичних і соціолінгвістичних знань і навичок  відповідно до різноманітних завдань і ситуацій спілкування. Професійна мовнокомунікативна компетентність передбачає оволодіння всіма видами мовленнєвої діяльності та основами культури писемного й усного мовлення, базовими вміннями й навичками застосування мови в професійних сферах і ситуаціях спілкуван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країнська літературна мова як вища форма загальнонародної національної мови, відшліфована майстрами слова, характеризується наявністю сталих норм, які є обов’язковими для всіх носіїв. Унормованість – основна ознака літературної мови, для якої обов’язкова правильність, точність, логічність, чистота і ясність, доступність і доцільність висловлюван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e941c"/>
                </a:solidFill>
                <a:latin typeface="Arial"/>
              </a:rPr>
              <a:t>3. Мовне законодавство та мовна політика в Україні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овні відносини в Україні регулює, крім Конституції,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Закон про мов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, який був прийнятий Верховною Радою України 28 жовтня 1989 року. Більшість статей Закону було введено в дію з 1 січня 1990 року, проте окремі статті набували чинності через три, п’ять, навіть сім років після прийняття документа. Найбільше значення в Законі має стаття, що надає українській мові державного стату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сновними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передумовами прийняття Закону про мови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бул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-перше, усвідомлення українським суспільством ролі мови в процесі національного відродження в нових суспільних умов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-друге, багаторічна політика лінгвоциду щодо української мови, наслідки якої не викорінено повністю і сьогодн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ермін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лінгвоцид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(у дослівному перекладі – мововбивство) – це свідома, цілеспрямована політика нищення певної мови як головної ознаки етносу – нації чи народності. Кінцевою метою  лінгвоциду є не геноцид, тобто фізичне знищення людей, а етноцид – ліквідація певного народу як окремої культурно-історичної спільно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Щодо української мови застосовували різні </a:t>
            </a:r>
            <a:r>
              <a:rPr b="1" i="1" lang="uk-UA" sz="2400" spc="-1" strike="noStrike">
                <a:solidFill>
                  <a:srgbClr val="ff0066"/>
                </a:solidFill>
                <a:latin typeface="Arial"/>
              </a:rPr>
              <a:t>форми лінгвоциду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, зокрема через заборону мови чужою державою, через освіту, через науку, через оголошення мови неприродною, через привілеї для панівної мови та її носіїв,  через втручання у внутрішню структуру мови, через приниження престижу мови, через боротьбу з друкованим словом.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Мовну ситуацію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в Україні  сьогодні визначають два основні чинн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а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наявність мовного законодавства, яке закріплює державний статус однієї </a:t>
            </a:r>
            <a:r>
              <a:rPr b="0" lang="uk-UA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української </a:t>
            </a:r>
            <a:r>
              <a:rPr b="0" lang="uk-UA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мов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0066"/>
                </a:solidFill>
                <a:latin typeface="Arial"/>
              </a:rPr>
              <a:t>б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співіснування двох мов у багатьох сферах суспільного життя, що є наслідком декларативного характеру мовного законодавства, а також спадщиною багаторічної політики лінгвоциду щодо української мо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2000" spc="-1" strike="noStrike">
                <a:solidFill>
                  <a:srgbClr val="ff0066"/>
                </a:solidFill>
                <a:latin typeface="Arial"/>
              </a:rPr>
              <a:t>Мовна політика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— сукупність ідеологічних постулатів і практичних дій, спрямованих на регулювання мовних відносин у країні або на розвиток мовної системи у певному напрямі. Вона є складником національної політики, віддзеркалює її принципи, відповідає панівній ідеології. Спрямування і форми впровадження мовної політики детерміновані існуючим суспільно-політичним ладом, режимом правління, міжетнічними відносинами в економіці, культурі, релігії тощо. Мовна політика здатна або закріплювати привілеї панівної мови, або ж сприяти зняттю національних конфліктів шляхом підтримки мов національних менш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1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e941c"/>
                </a:solidFill>
                <a:latin typeface="Arial"/>
              </a:rPr>
              <a:t>Автобіографі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40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Я, Шевченко Василь Павлович, народився 3 листопада 1990 року у м. Вінниц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 1996 році вступив до першого класу середньої школи №1 м. Вінниця. Під час навчання з 2001 до 2005 років відвідував спортивну секцію з плавання, а також музичну студі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Після закінчення 9-ти класів у 2004 році вступив до Технічного ліцею  м. Вінниця, який закінчив із золотою медал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 2009 році вступив до Вінницького державного аграрного університету на факультет механізації сільського господарства. Під час навчання в університеті виконую обов’язки старости груп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Батько – Шевченко Павло Миколайович, народився 15 лютого 1962 року у м. Бершадь Вінницької області. Працює оператором молокозав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Мати – Шевченко Лідія Василівна, народилася 24 квітня 1965 року у м. Немирів Вінницької області. Працює майстром виробничого навчання  Вінницького кооперативного інститу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Сестра – Шевченко Оксана Павлівна, народилася 23 жовтня 1995 року. Навчається в ліцеї № 1 м. Вінниц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23 серпня 2011 р.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Підп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941c"/>
                </a:solidFill>
                <a:latin typeface="Arial"/>
              </a:rPr>
              <a:t>Резюме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КОГУТЕНКО ВІТАЛІЙ ВАСИЛЬ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дреса: 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23300,</a:t>
            </a: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інницька обл., смт.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Тиврів, вул. М. Залізняка, 5, кв.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тел.: 05026385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Мета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робота за фахом з наступним її вдосконалення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Освіт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09.2004 – 06.2008 Тернопільський національний економічний університет, Вінницький  інститут економіки, спеціальність „Фінанси”, диплом бакалав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09.2008 – 06.2009 Тернопільський національний економічний університет, Вінницький інститут економіки, спеціальність „Державні фінанси”, диплом магіст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Досвід роботи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08.2008 – 10.2008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Економіст відділу МСБ Відділення №27 ВАТ „Банк „Фінанси і Кредит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10.2008 – дотепер  Провідний економіст МСБ Відділення 240/01 АТ „Укргазбанк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вички: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Робота в середовищі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робота з програмам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 Offic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– рівень корист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свідчення водія категорії „А”, „В”, „С” з 2005 ро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Мови: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українська – рідна, російська – вільно, англійська – базовий рі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Особисті якості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Активна життєва позиція, цілеспрямовані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Організаторські здібності, комунікабельні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ідповідальність, оперативність, оптиміз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реативність, ініціативні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Легко навчаюс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ruchka"/>
          <p:cNvPicPr/>
          <p:nvPr/>
        </p:nvPicPr>
        <p:blipFill>
          <a:blip r:embed="rId1"/>
          <a:stretch/>
        </p:blipFill>
        <p:spPr>
          <a:xfrm>
            <a:off x="6443640" y="4807080"/>
            <a:ext cx="270036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Администратор</cp:lastModifiedBy>
  <dcterms:modified xsi:type="dcterms:W3CDTF">2021-09-26T11:18:2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