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5FE-07BA-4EB9-B059-56D5DEEA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EBDA-4645-4BAE-9BB3-8897519D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F7C-5132-47E6-A082-A2144205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AAA-58AE-4713-BA49-99E13D7E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A7BA-30B5-4E89-AED1-B1CA7C7B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C739-F2F0-4892-BA8A-152E1D63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002F-6DF9-44FF-BC3E-28A190F4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9C96-1793-48FA-A46A-69F203A4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9E5C-07F7-4F1B-B9A2-2947CCE4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D6C0-3304-4575-B956-362E3B09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43CF-BA84-4AEF-BE2E-6D1A6F01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EDD1-3243-452D-BAC5-072DE14D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4F98-1024-4385-B614-F6461903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D637-355A-4731-9FB4-7EBE72B2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3A2D-8E5A-406D-BC37-308533F8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ECC1-4B74-4DD9-9832-C79EEF76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4122-546A-41D8-B433-506931C3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52AB-9B1E-46B5-83B6-00407C2D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F010-BA89-4212-A1EB-65AB7D0C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4292-D6E5-4CD6-A335-2627AECA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61F9-EADA-4ECA-97C3-FEA18C54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5C49-27B2-43DC-B2BD-E05148D9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13AA-CA3D-411D-B9BC-8DE3D6EB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95C2-C560-4883-A0A5-8B5FC450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A8BF-387A-42EF-B00F-D902908726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2AA5-A913-47D1-BDC0-F0CD578B5E8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uk-UA" sz="2000" spc="-1" strike="noStrike">
                <a:solidFill>
                  <a:srgbClr val="ee941c"/>
                </a:solidFill>
                <a:latin typeface="Arial"/>
              </a:rPr>
              <a:t>ТЕМА № 2</a:t>
            </a: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ee941c"/>
                </a:solidFill>
                <a:latin typeface="Arial"/>
              </a:rPr>
              <a:t> Статус української мови як державної у світлі Закону </a:t>
            </a:r>
            <a:r>
              <a:rPr b="0" lang="uk-UA" sz="2000" spc="-1" strike="noStrike">
                <a:solidFill>
                  <a:srgbClr val="b7e7ff"/>
                </a:solidFill>
                <a:latin typeface="Arial"/>
              </a:rPr>
              <a:t>«Про засади мовної політики…» </a:t>
            </a:r>
            <a:r>
              <a:rPr b="1" lang="uk-UA" sz="2000" spc="-1" strike="noStrike">
                <a:solidFill>
                  <a:srgbClr val="ee941c"/>
                </a:solidFill>
                <a:latin typeface="Arial"/>
              </a:rPr>
              <a:t> та Конституції України </a:t>
            </a:r>
            <a:br>
              <a:rPr sz="2000"/>
            </a:br>
            <a:r>
              <a:rPr b="1" lang="uk-UA" sz="2000" spc="-1" strike="noStrike" u="sng">
                <a:solidFill>
                  <a:srgbClr val="ee941c"/>
                </a:solidFill>
                <a:uFillTx/>
                <a:latin typeface="Arial"/>
              </a:rPr>
              <a:t>Автобіографія.</a:t>
            </a:r>
            <a:r>
              <a:rPr b="1" lang="uk-UA" sz="2000" spc="-1" strike="noStrike">
                <a:solidFill>
                  <a:srgbClr val="ee941c"/>
                </a:solidFill>
                <a:latin typeface="Arial"/>
              </a:rPr>
              <a:t> </a:t>
            </a:r>
            <a:r>
              <a:rPr b="1" lang="uk-UA" sz="2000" spc="-1" strike="noStrike" u="sng">
                <a:solidFill>
                  <a:srgbClr val="ee941c"/>
                </a:solidFill>
                <a:uFillTx/>
                <a:latin typeface="Arial"/>
              </a:rPr>
              <a:t>Резюме</a:t>
            </a: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8255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ова професійного спілкування як функціональний різновид української літературної мов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офесійна мовнокомунікативна компетенці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овне законодавство та мовна політика в Україні.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ee941c"/>
                </a:solidFill>
                <a:latin typeface="Arial"/>
              </a:rPr>
              <a:t>1. Мова професійного спілкування як функціональний різновид української літературної мови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uk-UA" sz="2400" spc="-1" strike="noStrike">
                <a:solidFill>
                  <a:srgbClr val="ff0066"/>
                </a:solidFill>
                <a:latin typeface="Arial"/>
              </a:rPr>
              <a:t>Мова професійного спілкування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як різновид літературної мови виявляється в офіційно-діловому стилі, в основному в його адміністративно-канцелярському різновиді, який має писемну й усну форми вживан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Історично цей стиль базується на документах доби Київської Русі та адміністрації Великого князівства Литовського, на юридичних актах міських урядів (XV – XVII ст.), на документах гетьманських канцелярій, має лексико-синтаксичний вплив російської канцелярії та мови австро-угорських і польських канцелярі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1680" y="260280"/>
            <a:ext cx="85406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На рівні лексики в основі ділової української мови лежать загальнозрозуміла, нейтральна, нормована, так звана книжна, міжстильова лексика, відповідно термінологія та професійно-виробнича лексика; відтінок книжності мають слова з абстрактним значенням (</a:t>
            </a:r>
            <a:r>
              <a:rPr b="0" i="1" lang="uk-UA" sz="2000" spc="-1" strike="noStrike">
                <a:solidFill>
                  <a:srgbClr val="ff0066"/>
                </a:solidFill>
                <a:latin typeface="Arial"/>
              </a:rPr>
              <a:t>виконання, дозволяється, розробляється, посвідчення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дієслова (</a:t>
            </a:r>
            <a:r>
              <a:rPr b="0" i="1" lang="uk-UA" sz="2000" spc="-1" strike="noStrike">
                <a:solidFill>
                  <a:srgbClr val="ff0066"/>
                </a:solidFill>
                <a:latin typeface="Arial"/>
              </a:rPr>
              <a:t>здійснювати, надіслати, призначити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вмотивовані слова (що відповідають змісту документа); іншомовні слова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(за доцільністю вживання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; на рівні словоформ – вибір найточнішої граматичної форми слова (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з погляду відмінків – прізвища, звертання),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живання роду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 (назви посад, професій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 і числа; написання числівників, вживання відповідних займенників (</a:t>
            </a:r>
            <a:r>
              <a:rPr b="0" i="1" lang="uk-UA" sz="2000" spc="-1" strike="noStrike">
                <a:solidFill>
                  <a:srgbClr val="ff0066"/>
                </a:solidFill>
                <a:latin typeface="Arial"/>
              </a:rPr>
              <a:t>Ви, ми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 та відповідних форм дієслів (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інфінітиву, першої та третьої особи теперішнього часу, наказового способу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; на рівні синтаксису документ в основному має розповідний характер, отже, вимагає розповідних поширених речень, найчастіше простих з прямим порядком слів, у деяких документах (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контрактах, договорах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 – складних речень з умовними, причиновими підрядними реченнями; можливі інфінітивні конструкції та вживання розщепленого присудка (</a:t>
            </a:r>
            <a:r>
              <a:rPr b="0" i="1" lang="uk-UA" sz="2000" spc="-1" strike="noStrike">
                <a:solidFill>
                  <a:srgbClr val="ff0066"/>
                </a:solidFill>
                <a:latin typeface="Arial"/>
              </a:rPr>
              <a:t>зробити огляд, провести операцію, давати вказівки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; важливим є вибір прийменника у синтаксичних конструкціях (</a:t>
            </a:r>
            <a:r>
              <a:rPr b="0" i="1" lang="uk-UA" sz="2000" spc="-1" strike="noStrike">
                <a:solidFill>
                  <a:srgbClr val="ff0066"/>
                </a:solidFill>
                <a:latin typeface="Arial"/>
              </a:rPr>
              <a:t>відповідно до, згідно з...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 і т. і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ee941c"/>
                </a:solidFill>
                <a:latin typeface="Arial"/>
              </a:rPr>
              <a:t>2. Професійна мовнокомунікативна компетенція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Професійна мовнокомунікативна компетентність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це вміння здійснювати мовленнєвий акт, де реалізується професійна комунікативно-мовленнєва поведінка на основі фонологічних, лексико-граматичних і соціолінгвістичних знань і навичок  відповідно до різноманітних завдань і ситуацій спілкування. Професійна мовнокомунікативна компетентність передбачає оволодіння всіма видами мовленнєвої діяльності та основами культури писемного й усного мовлення, базовими вміннями й навичками застосування мови в професійних сферах і ситуаціях спілкуванн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Українська літературна мова як вища форма загальнонародної національної мови, відшліфована майстрами слова, характеризується наявністю сталих норм, які є обов’язковими для всіх носіїв. Унормованість – основна ознака літературної мови, для якої обов’язкова правильність, точність, логічність, чистота і ясність, доступність і доцільність висловлюванн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ee941c"/>
                </a:solidFill>
                <a:latin typeface="Arial"/>
              </a:rPr>
              <a:t>3. Мовне законодавство та мовна політика в Україні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Мовні відносини в Україні регулює, крім Конституції,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Закон про мови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, який був прийнятий Верховною Радою України 28 жовтня 1989 року. Більшість статей Закону було введено в дію з 1 січня 1990 року, проте окремі статті набували чинності через три, п’ять, навіть сім років після прийняття документа. Найбільше значення в Законі має стаття, що надає українській мові державного статус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Основними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передумовами прийняття Закону про мови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бул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о-перше, усвідомлення українським суспільством ролі мови в процесі національного відродження в нових суспільних умов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о-друге, багаторічна політика лінгвоциду щодо української мови, наслідки якої не викорінено повністю і сьогодн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1680" y="260280"/>
            <a:ext cx="85406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Термін 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uk-UA" sz="2400" spc="-1" strike="noStrike">
                <a:solidFill>
                  <a:srgbClr val="ff0066"/>
                </a:solidFill>
                <a:latin typeface="Arial"/>
              </a:rPr>
              <a:t>лінгвоцид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(у дослівному перекладі – мововбивство) – це свідома, цілеспрямована політика нищення певної мови як головної ознаки етносу – нації чи народності. Кінцевою метою  лінгвоциду є не геноцид, тобто фізичне знищення людей, а етноцид – ліквідація певного народу як окремої культурно-історичної спільно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Щодо української мови застосовували різні </a:t>
            </a:r>
            <a:r>
              <a:rPr b="1" i="1" lang="uk-UA" sz="2400" spc="-1" strike="noStrike">
                <a:solidFill>
                  <a:srgbClr val="ff0066"/>
                </a:solidFill>
                <a:latin typeface="Arial"/>
              </a:rPr>
              <a:t>форми лінгвоциду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, зокрема через заборону мови чужою державою, через освіту, через науку, через оголошення мови неприродною, через привілеї для панівної мови та її носіїв,  через втручання у внутрішню структуру мови, через приниження престижу мови, через боротьбу з друкованим словом. 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Мовну ситуацію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в Україні  сьогодні визначають два основні чинн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а)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наявність мовного законодавства, яке закріплює державний статус однієї </a:t>
            </a:r>
            <a:r>
              <a:rPr b="0" lang="uk-UA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української </a:t>
            </a:r>
            <a:r>
              <a:rPr b="0" lang="uk-UA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мов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б)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співіснування двох мов у багатьох сферах суспільного життя, що є наслідком декларативного характеру мовного законодавства, а також спадщиною багаторічної політики лінгвоциду щодо української мо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Мовна політика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— сукупність ідеологічних постулатів і практичних дій, спрямованих на регулювання мовних відносин у країні або на розвиток мовної системи у певному напрямі. Вона є складником національної політики, віддзеркалює її принципи, відповідає панівній ідеології. Спрямування і форми впровадження мовної політики детерміновані існуючим суспільно-політичним ладом, режимом правління, міжетнічними відносинами в економіці, культурі, релігії тощо. Мовна політика здатна або закріплювати привілеї панівної мови, або ж сприяти зняттю національних конфліктів шляхом підтримки мов національних менши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1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e941c"/>
                </a:solidFill>
                <a:latin typeface="Arial"/>
              </a:rPr>
              <a:t>Автобіографі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540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Я, Шевченко Василь Павлович, народився 3 листопада 1990 року у м. Вінниц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У 1996 році вступив до першого класу середньої школи №1 м. Вінниця. Під час навчання з 2001 до 2005 років відвідував спортивну секцію з плавання, а також музичну студі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Після закінчення 9-ти класів у 2004 році вступив до Технічного ліцею  м. Вінниця, який закінчив із золотою медалл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У 2009 році вступив до Вінницького державного аграрного університету на факультет механізації сільського господарства. Під час навчання в університеті виконую обов’язки старости груп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Батько – Шевченко Павло Миколайович, народився 15 лютого 1962 року у м. Бершадь Вінницької області. Працює оператором молокозаво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Мати – Шевченко Лідія Василівна, народилася 24 квітня 1965 року у м. Немирів Вінницької області. Працює майстром виробничого навчання  Вінницького кооперативного інститу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Сестра – Шевченко Оксана Павлівна, народилася 23 жовтня 1995 року. Навчається в ліцеї № 1 м. Вінниц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23 серпня 2011 р.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                                 Підп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941c"/>
                </a:solidFill>
                <a:latin typeface="Arial"/>
              </a:rPr>
              <a:t>Резюме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764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КОГУТЕНКО ВІТАЛІЙ ВАСИЛЬ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Адреса: </a:t>
            </a: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23300,</a:t>
            </a: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інницька обл., смт.</a:t>
            </a: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Тиврів, вул. М. Залізняка, 5, кв.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тел.: 05026385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Мета</a:t>
            </a: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робота за фахом з наступним її вдосконалення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Освіт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09.2004 – 06.2008 Тернопільський національний економічний університет, Вінницький  інститут економіки, спеціальність „Фінанси”, диплом бакалав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09.2008 – 06.2009 Тернопільський національний економічний університет, Вінницький інститут економіки, спеціальність „Державні фінанси”, диплом магіст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Досвід роботи</a:t>
            </a: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08.2008 – 10.2008</a:t>
            </a: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Економіст відділу МСБ Відділення №27 ВАТ „Банк „Фінанси і Кредит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10.2008 – дотепер  Провідний економіст МСБ Відділення 240/01 АТ „Укргазбанк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вички: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Робота в середовищі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 робота з програмами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 Office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– рівень користува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Посвідчення водія категорії „А”, „В”, „С” з 2005 рок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Мови: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українська – рідна, російська – вільно, англійська – базовий рі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Особисті якості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Активна життєва позиція, цілеспрямовані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Організаторські здібності, комунікабельні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ідповідальність, оперативність, оптиміз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Креативність, ініціативні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Легко навчаюс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ruchka"/>
          <p:cNvPicPr/>
          <p:nvPr/>
        </p:nvPicPr>
        <p:blipFill>
          <a:blip r:embed="rId1"/>
          <a:stretch/>
        </p:blipFill>
        <p:spPr>
          <a:xfrm>
            <a:off x="6443640" y="4807080"/>
            <a:ext cx="2700360" cy="2050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Администратор</cp:lastModifiedBy>
  <dcterms:modified xsi:type="dcterms:W3CDTF">2021-09-26T11:18:2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