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BD3-DE0E-4A15-8531-F87CCE91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6A0-23FF-49E3-8115-499D70C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7AD-7CC8-4E97-B1D4-45AEAB0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121-3A12-46E2-8FF7-D1F9261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B2A4-264C-479A-977B-831023F9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45A7-7C63-4842-B086-04EDEE9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3081-D06D-49E3-A9A6-A2F34EB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3D9D-4E8E-4435-A3B8-1AA0CB4D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DF7-CBEC-4AD1-BFB9-DEC8BB0B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1255-F5DD-4114-B1AE-AB4D429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72D-4A99-4044-846A-E5C9C7F9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BEF-78C8-4BC6-84E6-3DC2337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F452-EAC3-427B-8C45-959F9C1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F48D-196E-40AD-9B5C-8D5C667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68A0-8221-4DE1-9492-215CF0B7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ACEF-4822-408B-842D-0FB50438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9BE4-92F6-4F45-8DC3-FCADFADC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FA3-B4CA-40B4-B934-3687DF75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67F-9E71-4CE5-BB25-1628D1DD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8B7-7034-4A9F-89E9-3ED30A9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D04-3FDB-4599-9C0B-10E5356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E44-A708-4AFC-B89D-B89320F9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B5C-418F-488B-8DD1-6DBB413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9B4-BABE-4EFA-9379-1CE27C1B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D234-C455-45B6-8225-730ED1419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2B40-7ACE-4DBA-8FAC-F959081D34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ТЕМА № 3 </a:t>
            </a:r>
            <a:br>
              <a:rPr sz="2000"/>
            </a:b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Лексичний склад української мови, його застосування у професійному мовленні. </a:t>
            </a:r>
            <a:r>
              <a:rPr b="1" i="1" lang="uk-UA" sz="2000" spc="-1" strike="noStrike">
                <a:solidFill>
                  <a:srgbClr val="ee941c"/>
                </a:solidFill>
                <a:latin typeface="Arial"/>
              </a:rPr>
              <a:t>Заява. Види зая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країнська лексика з погляду її походження та розвитку (корінна та чужомов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Склад лексики української мови за активністю вживання з погляду сучаснос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Книжна лексика в докумен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941c"/>
                </a:solidFill>
                <a:latin typeface="Arial"/>
              </a:rPr>
              <a:t>Книжна лексика в документах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нижна лексика характерна для стилів, які функціонують здебільшого в письмовій формі, це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іловий, науковий, художній і публіцистичний. Книжне забарвлення мають терміни, слова, що виражають загальнонаукові поняття й уживаються в широкому значенні. Наприклад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асигнація, прогрес, історія, економіка, політика, експеримент, демократизм, форум, характеристика, абітурієнт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ощ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начне місце відведено й словам з абстрактним значенням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-ання, -ення, -іння, -ство, -цтво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функціонування, примирення, товариство, сумісництво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еред книжних слів є чимало таких, що характеризуються незначним відтінком книжності. Це дієслова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-увати, -юват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панувати, утримувати, заповнювати, призначувати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а ін.); віддієслівні іменники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-ння, -тт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спостереження, посвідчення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вибуття</a:t>
            </a:r>
            <a:r>
              <a:rPr b="0" lang="uk-UA" sz="2000" spc="-1" strike="noStrike">
                <a:solidFill>
                  <a:srgbClr val="ee941c"/>
                </a:solidFill>
                <a:latin typeface="Arial"/>
              </a:rPr>
              <a:t>);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ієприкметники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виконуючий, призначений, накреслений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. У документах різного типу особливу увагу слід звертати на урочисті книжні слова, бо саме їх вживання у даній сфері спричиняє чимало недоречностей. Не рекомендується використовувати урочисту лексику в робочих документах, що мають офіційний хара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941c"/>
                </a:solidFill>
                <a:latin typeface="Arial"/>
              </a:rPr>
              <a:t>Заяв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Зразок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Директоров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виробничого об’єдн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„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грес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Кириленку В.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Костенка Івана Хомич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який мешкає за адресо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м. Харків, вул. Фрунзе, 12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тел. 14-58-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а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шу зарахувати мене на посаду старшого інженера виробничого відділу з 27. 02. 2010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До заяви дода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. Диплом про вищу осві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2. Трудову книж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3 Автобіографі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24. 02. 10                                 особистий підпис Костенка  І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оо"/>
          <p:cNvPicPr/>
          <p:nvPr/>
        </p:nvPicPr>
        <p:blipFill>
          <a:blip r:embed="rId1"/>
          <a:stretch/>
        </p:blipFill>
        <p:spPr>
          <a:xfrm>
            <a:off x="1403280" y="1484280"/>
            <a:ext cx="1944720" cy="146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1. Українська лексика з погляду її походження та розвитку (корінна та чужомовна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Лексика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вся  сукупність слів української мови, яка є складною організованою системою, й елементи якої тісно пов'язані спільністю чи протилежністю значень, стилістичного забарвлення, сфери вживання тощо. Термін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лекси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вживається також на позначення певних груп слів, об'єднаних спільною ознакою (запозичена, застаріла, професійна, жаргонна, діалектна, поетична, експресивна лексика тощо), а також на позначення сукупності слів, що вживаються певним письменником у його творах (лексика Шевченка, Франка, Коцюбинськ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ловниковий склад сучасної української літературної мови формувався протягом тривалого історичного часу. Лексика сучасної літературної української мови неоднорідна за походженням. Виділяють 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корінну і чужомовну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(запозичену) лекс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Корінна українська лексика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це слова, що виникли в українській мові або були успадковані нею від давніх мов – основ (праслов'янської і давньоруської),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базі яких вона утворилася. Наприклад: </a:t>
            </a:r>
            <a:r>
              <a:rPr b="0" i="1" lang="uk-UA" sz="2400" spc="-1" strike="noStrike">
                <a:solidFill>
                  <a:srgbClr val="ee941c"/>
                </a:solidFill>
                <a:latin typeface="Arial"/>
              </a:rPr>
              <a:t>хлібороб, щирість, будувати, щоденно, сорок, дружба, вчити, наш, сто, зверху</a:t>
            </a:r>
            <a:r>
              <a:rPr b="1" lang="uk-UA" sz="2400" spc="-1" strike="noStrike">
                <a:solidFill>
                  <a:srgbClr val="ee94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зивають три основні шари корінної української лексики з погляду її походження: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спільнослов'янський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до якого входить і найдавніша, спільноіндоєвропейська лексика,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спільносхіднослов'янський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і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власне український.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Спільнослов'янська лексика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 слова, успадковані через давньоруську із спільнослов'янської (праслов'янської) мови; найдавніший шар української лексики, її ядро. Спільнослов'янські слова втратили свою мотивованість і мають, як правило, непохідну основу. Наприклад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мати, око, кінь, молоко, воля; сидіти, орати, вміти, учити; хитрий, глухий; один, сто; ваш, там, куди; про, а, н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Спільносхіднослов'янська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лексик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пов'язана зі змінами у суспільному економічному житті східних слов'ян, розвитком науки, культури, мистецтва, особливо в період Київської Русі. Наприклад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селянин, митник, урожай, скатерть, поневолі, велич, суть (у сучасному значенні), хорош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Власне українська лексика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– це слова, що виникли в українській мові і є специфічними, властивими тільки їй, словами. Наприклад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Батьківщина, очолити, громадянин, плугатар, осередок, освіта, самота, піддання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. Почала вона формуватися з ХІV 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ражаючи специфіку української мови, власне українські слова відсутні в інших мовах, у тім числі і східнослов'янських. У цих мовах вони мають відповідники – інші за звучанням слова. Так як немає народу, який жив би ізольовано від інших народів, так немає й мови, вільної від іншомовних засвоєнь, насамперед лексичних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позичення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лів з однієї мови в іншу досить давнє і звичайне явище. У сучасній українській мові їх порівняно небагато – 10-15%. Усі запозичення української мови поділяють на дві груп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1)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слова, запозичені зі слов’янських мов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(з поль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скарб, байка, полковник, петрушка, барвіно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росій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паровоз, завод, взвод, безробіття, декабрис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білору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дьоготь, бадьорий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та ін.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2)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слова, запозичені з неслов’янських мов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з грец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ангел, монастир, історія, біографія, поема, атмометр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латин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акваріум, радіус, активатор, диктатур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тюркських (</a:t>
            </a:r>
            <a:r>
              <a:rPr b="0" lang="uk-UA" sz="2000" spc="-1" strike="noStrike">
                <a:solidFill>
                  <a:srgbClr val="ee941c"/>
                </a:solidFill>
                <a:latin typeface="Arial"/>
              </a:rPr>
              <a:t>о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таман, сарай, барабан, кизил, базар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француз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парад, кабінет, сержант, сюжет, ажур, салю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англій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матч, баскетбол, смокінг, мітинг, лідер, фініш, бар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німец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офіцер, штаб, єфрейтор, бухгалтер, вексель, масштаб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голланд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флот, брезент, дамб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італій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банк, опера, помп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іспан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гітара, карамель, пум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фін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камбала, морж, пельмені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багачення української лексики здійснюється не тільки внаслідок прямих засвоєнь слів з інших мов, а й шляхом калькування.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Кальки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це своєрідний різновид запозичень, що являє собою буквальний переклад складових елементів слова або усталеного звороту. Кальки бувають 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лексичні і фразеологічні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би правильно вживати іншомовні слова, варто дотримуватися таких рекомендаці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не ставити у текст іншомовні слова, коли є відповідники в українській мові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) вживання іншомовного слова в діловодстві допустиме лише в тому значенні, в якому воно зафіксоване в словник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) не слід користуватися в одному і тому ж документі іншомовним словом і його українським відповідником на позначення того самого поняття. Бажано користуватися в таких випадках національною мовою, що значною мірою полегшить ведення справочи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икористовуючи іншомовне слово в мовленні, зокрема й у діловому, слід добре усвідомлювати його значення; іноді замість іншомовних слів доречно використати рівноцінні українські відповідники, пор.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нархія – безладд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пелювати –  звертати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ргумент –  підстава, дока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рокер – посередни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алюта –  грошова одиниця в країні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генеральний – загальний, голов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ебати – обговоренн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ефект – недолік, вада, ґандж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омінувати – переваж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екстраординарний –  особлив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онвенція – угода, догові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оординувати  – погодж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лімітувати – обмеж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ерогатива –  перева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іоритет –  перші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еєструвати – запис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епродукувати – відтворю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симптом – озна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фіксувати –  запис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цейтнот – нестача час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шеф – голова, керів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ьь"/>
          <p:cNvPicPr/>
          <p:nvPr/>
        </p:nvPicPr>
        <p:blipFill>
          <a:blip r:embed="rId1"/>
          <a:stretch/>
        </p:blipFill>
        <p:spPr>
          <a:xfrm>
            <a:off x="6012000" y="3357720"/>
            <a:ext cx="2790720" cy="279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2. Склад лексики української мови за активністю вживання з погляду сучасності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 активністю вживання розрізняють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активну і пасивну лексику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ва шари лексики, наявність яких зумовлена такими основними чинниками, як поява нових слів і вихід з ужитку слів, що позначали старі явища й реалії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Активна лексика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це слова, які часто вживаються в повсякденному спілкуванні. Вони зрозумілі для кожного члена мовного колективу. Це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загальновживані слова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400" spc="-1" strike="noStrike">
                <a:solidFill>
                  <a:srgbClr val="ee941c"/>
                </a:solidFill>
                <a:latin typeface="Arial"/>
              </a:rPr>
              <a:t>хліб, сіль, гіркий, добрий, іти, бігти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) та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широковідомі терміни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400" spc="-1" strike="noStrike">
                <a:solidFill>
                  <a:srgbClr val="ee941c"/>
                </a:solidFill>
                <a:latin typeface="Arial"/>
              </a:rPr>
              <a:t>нація, діаспора, принтер, квартет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). Слова, що входять до активного словника, різні за походженням і стилістичним використанням. Серед них є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корінні українські і запозичені слова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ругий шар –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пасивна лекси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набагато менший. Його складають слова, що не є обов'язковими, необхідними для повсякденного спілкування у будь-якій сфері;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 рідковживані слова, які не належать до повсякденного мовного вжитку. Серед пасивної лексики розрізняют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. застарілі слова, які поділяються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архаїз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слова, що вийшли з активного вжитку, замінені іншими й використовуються з певною метою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уста – губи; ректи – говорити; боян – співець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ощо) т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істориз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: (слова, що називають предмети, які зникли з життя суспільства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терем, кріпак, боярин, десяцький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ощ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. нові слова, або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неологіз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– слова, що входять або недавно увійшли в мову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компакт-диск, клонування, піар, Інтернет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та ін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старілі слова не вживаються в професійних текстах, неологізми ж характерні для наукового та публіцистичного стилі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1-09-26T11:21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