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5C6-8153-43B2-8C9B-6272AB9F9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254-FA4B-417A-A603-4F5F01440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32A1-2ADD-415A-81FC-D81E33698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DD2-5E85-46BB-B28E-E9E3B120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B5F-933B-4118-A779-3309D793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83C-079F-4597-B0A4-D32A325E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2B1-2664-4734-9687-BD78361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248-5BDC-444E-BD41-58CCF40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11D-2A93-4D01-9ACB-924E148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5FB-0840-4D1E-8E84-4D1B15C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601-20ED-41A7-A167-AB83D92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AC3-1C8E-4937-8D9A-B813D3B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419-B29A-47D0-9FFA-135479D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391-FA9D-44F9-BD0D-EC440CA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1C3-5295-407C-9323-226A0DB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7071-37AF-47D5-AA76-A758A15BB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057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10253f"/>
                </a:solidFill>
                <a:latin typeface="Calibri"/>
              </a:rPr>
              <a:t>МІЖНАРОДНІ КРЕДИТНО-РОЗРАХУНКОВІ ТА ВАЛЮТНІ ОПЕРАЦ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50920" y="1285920"/>
            <a:ext cx="871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утність міжнародних фінансів та їх роль у сучасній світовій економі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вітові фінансові р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народна валютна система та її особливості. Валютний ринок і валютний ку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народні розраху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440" y="3115800"/>
            <a:ext cx="496728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b731f"/>
                </a:solidFill>
                <a:latin typeface="Calibri"/>
              </a:rPr>
              <a:t>Форми міжнародних розрахун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06520" y="376200"/>
            <a:ext cx="4065480" cy="247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Акредитив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— це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розрахунковий або грошовий документ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який являє собою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доручення однієї кредитної установи іншій здійснити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 рахунок спеціально заброньованих коштів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оплату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товарно-транспортних документів за відвантажений товар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або сплатити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’явникові акредитива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певну суму грош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132520" y="2481120"/>
            <a:ext cx="3670200" cy="34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Інкасо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— це банківська операція, за допомогою якої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бан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 дорученням свого клієнта (експортера)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отримує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на підставі розрахункових документів,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грошові кошти, що належать клієнту, від платника (імпортера)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 відвантажені йому товарно-матеріальні цінності або надані послуги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і зараховує ці кошти на рахунок клієнта-експортера у себе в банку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Ця форма платежу значно поширена, оскільки дешевша порівняно з акредитив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506520" y="3789360"/>
            <a:ext cx="4281480" cy="216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ржава може втручатися у сферу міжнародних розрахунків шляхом використання </a:t>
            </a:r>
            <a:r>
              <a:rPr b="1" i="1" lang="ru-RU" sz="1700" spc="-1" strike="noStrike">
                <a:solidFill>
                  <a:srgbClr val="ff0000"/>
                </a:solidFill>
                <a:latin typeface="Calibri"/>
              </a:rPr>
              <a:t>валютних клірингі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Валютний кліринг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— це міжурядова угода про взаємний залік зустрічних вимог і зобов’язань, які виходять з вартісної рівності товарних поставок і наданих послу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лево 1"/>
          <p:cNvSpPr/>
          <p:nvPr/>
        </p:nvSpPr>
        <p:spPr>
          <a:xfrm>
            <a:off x="4745160" y="376200"/>
            <a:ext cx="4032000" cy="1833480"/>
          </a:xfrm>
          <a:prstGeom prst="leftArrow">
            <a:avLst>
              <a:gd name="adj1" fmla="val 50000"/>
              <a:gd name="adj2" fmla="val 4922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Times New Roman"/>
              </a:rPr>
              <a:t>відзивний, безвідзивний, покритий та непокритий акреди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0600" y="109440"/>
            <a:ext cx="822960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b731f"/>
                </a:solidFill>
                <a:latin typeface="Calibri (Заголовки)"/>
              </a:rPr>
              <a:t>Зміст і структура платіж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47600" y="604800"/>
            <a:ext cx="4572000" cy="146556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ЛАТІЖНИЙ БАЛАН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lance of payments) –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іввідношення між сумою грошових надходжень, отриманих країною з-за кордону, та сумою здійснених нею платежів за кордон протягом певного пері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4932360" y="638280"/>
            <a:ext cx="41148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є вартісним вираженням масштабів, структури та характеру зовнішньоекономічних операцій країни та її участі у світовому господарстві. За формою складання. 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47600" y="2305080"/>
            <a:ext cx="4572000" cy="15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є </a:t>
            </a:r>
            <a:r>
              <a:rPr b="1" i="1" lang="uk-UA" sz="1600" spc="-1" strike="noStrike">
                <a:solidFill>
                  <a:srgbClr val="c00000"/>
                </a:solidFill>
                <a:latin typeface="Calibri"/>
              </a:rPr>
              <a:t>статистичним звітом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, у якому в систематизованому вигляді </a:t>
            </a:r>
            <a:r>
              <a:rPr b="0" lang="uk-UA" sz="1600" spc="-1" strike="noStrike">
                <a:solidFill>
                  <a:srgbClr val="254061"/>
                </a:solidFill>
                <a:latin typeface="Calibri"/>
              </a:rPr>
              <a:t>наведен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сумарні дані про зовнішньо­економічні операції резидентів країни з резидентами інших країн (з нерезидентами) за певний період (місяць, квартал, рі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53360" y="637236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70c0"/>
                </a:solidFill>
                <a:latin typeface="Calibri"/>
              </a:rPr>
              <a:t>Платіжний баланс </a:t>
            </a:r>
            <a:r>
              <a:rPr b="0" lang="uk-UA" sz="1800" spc="-1" strike="noStrike">
                <a:solidFill>
                  <a:srgbClr val="0070c0"/>
                </a:solidFill>
                <a:latin typeface="Calibri"/>
              </a:rPr>
              <a:t>складається на </a:t>
            </a:r>
            <a:r>
              <a:rPr b="1" lang="uk-UA" sz="1800" spc="-1" strike="noStrike">
                <a:solidFill>
                  <a:srgbClr val="0070c0"/>
                </a:solidFill>
                <a:latin typeface="Calibri"/>
              </a:rPr>
              <a:t>певну д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4572000" y="2138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сновні компоненти платіжного балансу групуються за двома рахунками: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ахунком поточних операцій, рахунком операцій з капіталом і фінансових операцій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 flipH="1">
            <a:off x="4816440" y="3816000"/>
            <a:ext cx="4230720" cy="277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b050"/>
                </a:solidFill>
                <a:latin typeface="Calibri (Заголовки)"/>
                <a:ea typeface="Times New Roman"/>
              </a:rPr>
              <a:t>Рахунок поточних операцій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 включає всі операції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з реальними цінностями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, що відбуваються між резидентами та нерезидентами, а також операції,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пов’язані з безоплатним наданням або одержанням цінностей,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 які призначені для поточного використання. У структурі поточного рахунка виділяються чотири основні компоненти: </a:t>
            </a:r>
            <a:r>
              <a:rPr b="1" i="1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товари, послуги, доходи та поточні трансферт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b050"/>
                </a:solidFill>
                <a:latin typeface="Calibri (Заголовки)"/>
                <a:ea typeface="Times New Roman"/>
              </a:rPr>
              <a:t>Рахунок операцій з капіталом</a:t>
            </a:r>
            <a:r>
              <a:rPr b="0" i="1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 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охоплює всі операції, які включають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одержання або оплату капітальних трансфертів 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(трансферти на інвестиційні цілі, прощення боргу, перекази мігрантів тощо), а також </a:t>
            </a:r>
            <a:r>
              <a:rPr b="1" lang="uk-UA" sz="1100" spc="-1" strike="noStrike">
                <a:solidFill>
                  <a:srgbClr val="0070c0"/>
                </a:solidFill>
                <a:latin typeface="Calibri (Заголовки)"/>
                <a:ea typeface="Times New Roman"/>
              </a:rPr>
              <a:t>придбання або реалізацію нефінансових активів та прав власності</a:t>
            </a:r>
            <a:r>
              <a:rPr b="0" lang="uk-UA" sz="11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, таких як, наприклад, торгові марки, патенти, авторські права, права на видобуток корисних копалин та інші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 flipH="1">
            <a:off x="146880" y="3968280"/>
            <a:ext cx="4473720" cy="2406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складається з </a:t>
            </a:r>
            <a:r>
              <a:rPr b="1" lang="uk-UA" sz="1400" spc="-1" strike="noStrike">
                <a:solidFill>
                  <a:srgbClr val="008e40"/>
                </a:solidFill>
                <a:latin typeface="Calibri (Заголовки)"/>
                <a:ea typeface="Times New Roman"/>
              </a:rPr>
              <a:t>двох частин 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– </a:t>
            </a:r>
            <a:r>
              <a:rPr b="0" i="1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надход­жень і платежів. 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Якщо </a:t>
            </a:r>
            <a:r>
              <a:rPr b="0" lang="en-US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H&gt;</a:t>
            </a:r>
            <a:r>
              <a:rPr b="0" lang="ru-RU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П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, платіжний баланс є </a:t>
            </a:r>
            <a:r>
              <a:rPr b="1" lang="uk-UA" sz="1400" spc="-1" strike="noStrike">
                <a:solidFill>
                  <a:srgbClr val="7030a0"/>
                </a:solidFill>
                <a:latin typeface="Calibri (Заголовки)"/>
                <a:ea typeface="Times New Roman"/>
              </a:rPr>
              <a:t>активним (профіцитним), 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а якщо навпаки – </a:t>
            </a:r>
            <a:r>
              <a:rPr b="0" i="1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є</a:t>
            </a:r>
            <a:r>
              <a:rPr b="0" lang="uk-UA" sz="14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7030a0"/>
                </a:solidFill>
                <a:latin typeface="Calibri (Заголовки)"/>
                <a:ea typeface="Times New Roman"/>
              </a:rPr>
              <a:t>пасивним (дефіцитни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7030a0"/>
                </a:solidFill>
                <a:latin typeface="Calibri (Заголовки)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В Україні відповідальність за складання </a:t>
            </a:r>
            <a:r>
              <a:rPr b="0" i="1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П.б</a:t>
            </a:r>
            <a:r>
              <a:rPr b="0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. на законодавчому рівні покладено на Національний банк. </a:t>
            </a:r>
            <a:r>
              <a:rPr b="0" i="1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П.б</a:t>
            </a:r>
            <a:r>
              <a:rPr b="0" lang="uk-UA" sz="1200" spc="-1" strike="noStrike">
                <a:solidFill>
                  <a:srgbClr val="000000"/>
                </a:solidFill>
                <a:latin typeface="Calibri (Заголовки)"/>
                <a:ea typeface="Times New Roman"/>
              </a:rPr>
              <a:t>. складається щоквартально та публікується в аналітично-статистичному виданні Національного банку України «Платіжний баланс і зовнішній борг України» та на сторінці Національного банку в мережі І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10"/>
          <p:cNvSpPr/>
          <p:nvPr/>
        </p:nvSpPr>
        <p:spPr>
          <a:xfrm>
            <a:off x="6012000" y="3611520"/>
            <a:ext cx="209520" cy="303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6286680" cy="35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b731f"/>
                </a:solidFill>
                <a:latin typeface="Calibri"/>
              </a:rPr>
              <a:t>Міжнародний ф</a:t>
            </a:r>
            <a:r>
              <a:rPr b="1" lang="uk-UA" sz="2000" spc="-1" strike="noStrike">
                <a:solidFill>
                  <a:srgbClr val="4b731f"/>
                </a:solidFill>
                <a:latin typeface="Calibri"/>
              </a:rPr>
              <a:t>інансовий  менеджм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sp>
          <p:nvSpPr>
            <p:cNvPr id="124" name="Oval 7"/>
            <p:cNvSpPr/>
            <p:nvPr/>
          </p:nvSpPr>
          <p:spPr>
            <a:xfrm>
              <a:off x="54360" y="1643040"/>
              <a:ext cx="8883000" cy="9259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>
                  <a:solidFill>
                    <a:srgbClr val="ffff00"/>
                  </a:solidFill>
                  <a:latin typeface="Calibri"/>
                </a:rPr>
                <a:t>Метою міжнародного фінансового управління</a:t>
              </a:r>
              <a:r>
                <a:rPr b="0" lang="uk-UA" sz="14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Calibri"/>
                </a:rPr>
                <a:t>є організація міжнародних фінансових відносин таким чином, щоб вони забезпечували максимальний результат функціонування усієї світової економічної систе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Rectangle 13"/>
            <p:cNvGrpSpPr/>
            <p:nvPr/>
          </p:nvGrpSpPr>
          <p:grpSpPr>
            <a:xfrm>
              <a:off x="0" y="5716800"/>
              <a:ext cx="9144000" cy="1141200"/>
              <a:chOff x="0" y="5716800"/>
              <a:chExt cx="9144000" cy="1141200"/>
            </a:xfrm>
          </p:grpSpPr>
          <p:pic>
            <p:nvPicPr>
              <p:cNvPr id="126" name="Rectangl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716800"/>
                <a:ext cx="9144000" cy="11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4000" y="5752080"/>
                <a:ext cx="902376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400" spc="-1" strike="noStrike">
                    <a:solidFill>
                      <a:srgbClr val="ffffff"/>
                    </a:solidFill>
                    <a:latin typeface="Calibri"/>
                  </a:rPr>
                  <a:t>Фінансовий менеджмент міжнародних корпорацій виконує як загальні для всіх фірм </a:t>
                </a:r>
                <a:r>
                  <a:rPr b="0" i="1" lang="uk-UA" sz="1400" spc="-1" strike="noStrike">
                    <a:solidFill>
                      <a:srgbClr val="ffffff"/>
                    </a:solidFill>
                    <a:latin typeface="Calibri"/>
                  </a:rPr>
                  <a:t>функції</a:t>
                </a:r>
                <a:r>
                  <a:rPr b="0" lang="uk-UA" sz="1400" spc="-1" strike="noStrike">
                    <a:solidFill>
                      <a:srgbClr val="ffffff"/>
                    </a:solidFill>
                    <a:latin typeface="Calibri"/>
                  </a:rPr>
                  <a:t> (фінансове планування, оперативне управління (облік, регулювання) та контроль), так і фун­кції, притаманні лише міжнародному менеджменту, котрі зумовлені функціонуванням у неоднорідному середовищі в умовах валютного ризику, обмежень на міжнародну торгівлю й інвестиції, політичного ризику, особливих умов оподаткування й обліку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18"/>
            <p:cNvSpPr/>
            <p:nvPr/>
          </p:nvSpPr>
          <p:spPr>
            <a:xfrm>
              <a:off x="54360" y="2964600"/>
              <a:ext cx="5851080" cy="256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4f6228"/>
                  </a:solidFill>
                  <a:latin typeface="Calibri"/>
                </a:rPr>
                <a:t>Фінансовий менеджмент міжнародного бізнесу </a:t>
              </a:r>
              <a:r>
                <a:rPr b="1" lang="uk-UA" sz="14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це система прийняття економічних рішень, які виникають при реалізації завдань фінансового менеджменту в умовах інтернаціоналізації господарчої діяльності фірми, ТНК.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Об’єктом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 виступає міжнародний бізнес, основними видами якого є міжнародна торгівля і зарубіжні інвестиції. Головним суб'єктом фінансового управління міжнародного бізнесу є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міжнародна фірма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, яка вирізняється від національної тим, що на її діяльність безпосередньо як фактори національного виміру, так і над національні чинники - тарифні бар'єри, валютні курси, відмінності в рівнях відсоткових ставок і темпів інфляції в різних країнах, мова, політичні проблеми тощо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9"/>
            <p:cNvSpPr/>
            <p:nvPr/>
          </p:nvSpPr>
          <p:spPr>
            <a:xfrm>
              <a:off x="6117840" y="2890440"/>
              <a:ext cx="2960640" cy="256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4f6228"/>
                  </a:solidFill>
                  <a:latin typeface="Calibri"/>
                </a:rPr>
                <a:t>Управління фінансами міжнародних фінансових організацій та інституцій 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подібні до державного фінансового менеджменту, тільки їх головним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суб’єктом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 є міжнародна організація чи інституція, а </a:t>
              </a:r>
              <a:r>
                <a:rPr b="1" i="1" lang="uk-UA" sz="1400" spc="-1" strike="noStrike">
                  <a:solidFill>
                    <a:srgbClr val="000000"/>
                  </a:solidFill>
                  <a:latin typeface="Calibri"/>
                </a:rPr>
                <a:t>об’єктом</a:t>
              </a:r>
              <a:r>
                <a:rPr b="0" lang="uk-UA" sz="1400" spc="-1" strike="noStrike">
                  <a:solidFill>
                    <a:srgbClr val="000000"/>
                  </a:solidFill>
                  <a:latin typeface="Calibri"/>
                </a:rPr>
                <a:t> виступають фінансові ресурси та відносини цих організацій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54360" y="2523240"/>
              <a:ext cx="9023760" cy="464400"/>
            </a:xfrm>
            <a:custGeom>
              <a:avLst/>
              <a:gdLst>
                <a:gd name="textAreaLeft" fmla="*/ 1127880 w 9023760"/>
                <a:gd name="textAreaRight" fmla="*/ 7895880 w 9023760"/>
                <a:gd name="textAreaTop" fmla="*/ 0 h 464400"/>
                <a:gd name="textAreaBottom" fmla="*/ 406440 h 46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8900"/>
                  </a:moveTo>
                  <a:lnTo>
                    <a:pt x="5400" y="20925"/>
                  </a:lnTo>
                  <a:cubicBezTo>
                    <a:pt x="5400" y="21263"/>
                    <a:pt x="4980" y="21600"/>
                    <a:pt x="45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2700" y="2700"/>
                  </a:lnTo>
                  <a:lnTo>
                    <a:pt x="2700" y="675"/>
                  </a:lnTo>
                  <a:cubicBezTo>
                    <a:pt x="2700" y="338"/>
                    <a:pt x="3120" y="0"/>
                    <a:pt x="3540" y="0"/>
                  </a:cubicBezTo>
                  <a:lnTo>
                    <a:pt x="18060" y="0"/>
                  </a:lnTo>
                  <a:cubicBezTo>
                    <a:pt x="18480" y="0"/>
                    <a:pt x="18900" y="338"/>
                    <a:pt x="18900" y="675"/>
                  </a:cubicBezTo>
                  <a:lnTo>
                    <a:pt x="189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7040" y="21600"/>
                  </a:lnTo>
                  <a:cubicBezTo>
                    <a:pt x="16620" y="21600"/>
                    <a:pt x="16200" y="21263"/>
                    <a:pt x="16200" y="20925"/>
                  </a:cubicBezTo>
                  <a:lnTo>
                    <a:pt x="16200" y="18900"/>
                  </a:lnTo>
                  <a:close/>
                </a:path>
                <a:path fill="darkenLess" w="21600" h="21600">
                  <a:moveTo>
                    <a:pt x="5400" y="18900"/>
                  </a:moveTo>
                  <a:lnTo>
                    <a:pt x="5400" y="20925"/>
                  </a:lnTo>
                  <a:cubicBezTo>
                    <a:pt x="5400" y="20588"/>
                    <a:pt x="4980" y="20250"/>
                    <a:pt x="4560" y="20250"/>
                  </a:cubicBezTo>
                  <a:lnTo>
                    <a:pt x="3540" y="20250"/>
                  </a:lnTo>
                  <a:cubicBezTo>
                    <a:pt x="3120" y="20250"/>
                    <a:pt x="2700" y="19913"/>
                    <a:pt x="2700" y="19575"/>
                  </a:cubicBezTo>
                  <a:cubicBezTo>
                    <a:pt x="2700" y="19238"/>
                    <a:pt x="3120" y="18900"/>
                    <a:pt x="3540" y="18900"/>
                  </a:cubicBezTo>
                  <a:close/>
                </a:path>
                <a:path fill="darkenLess" w="21600" h="21600">
                  <a:moveTo>
                    <a:pt x="16200" y="18900"/>
                  </a:moveTo>
                  <a:lnTo>
                    <a:pt x="16200" y="20925"/>
                  </a:lnTo>
                  <a:cubicBezTo>
                    <a:pt x="16200" y="20588"/>
                    <a:pt x="16620" y="20250"/>
                    <a:pt x="17040" y="20250"/>
                  </a:cubicBezTo>
                  <a:lnTo>
                    <a:pt x="18060" y="20250"/>
                  </a:lnTo>
                  <a:cubicBezTo>
                    <a:pt x="18480" y="20250"/>
                    <a:pt x="18900" y="19913"/>
                    <a:pt x="18900" y="19575"/>
                  </a:cubicBezTo>
                  <a:cubicBezTo>
                    <a:pt x="18900" y="19238"/>
                    <a:pt x="18480" y="18900"/>
                    <a:pt x="18060" y="18900"/>
                  </a:cubicBezTo>
                  <a:close/>
                </a:path>
                <a:path fill="darkenLess" w="21600" h="21600">
                  <a:moveTo>
                    <a:pt x="2700" y="19575"/>
                  </a:moveTo>
                  <a:lnTo>
                    <a:pt x="2700" y="2700"/>
                  </a:lnTo>
                </a:path>
                <a:path fill="darkenLess" w="21600" h="21600">
                  <a:moveTo>
                    <a:pt x="18900" y="19575"/>
                  </a:moveTo>
                  <a:lnTo>
                    <a:pt x="18900" y="2700"/>
                  </a:lnTo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Calibri"/>
                </a:rPr>
                <a:t>Складові глобального управління фінанс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0"/>
          <p:cNvSpPr/>
          <p:nvPr/>
        </p:nvSpPr>
        <p:spPr>
          <a:xfrm>
            <a:off x="0" y="393840"/>
            <a:ext cx="9144000" cy="125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Calibri"/>
              </a:rPr>
              <a:t>Міжнародний фінансовий менеджмент</a:t>
            </a:r>
            <a:r>
              <a:rPr b="0" lang="uk-UA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являє собою </a:t>
            </a:r>
            <a:r>
              <a:rPr b="1" lang="uk-UA" sz="1400" spc="-1" strike="noStrike">
                <a:solidFill>
                  <a:srgbClr val="c00000"/>
                </a:solidFill>
                <a:latin typeface="Calibri"/>
              </a:rPr>
              <a:t>систему принципів і методів розробки і реалізації управлінських рішень, пов’язаних з формуванням, розподілом і використанням фінансових ресурсів на світовому або міжнародному рівнях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. Іншими словами, це </a:t>
            </a:r>
            <a:r>
              <a:rPr b="1" lang="uk-UA" sz="1400" spc="-1" strike="noStrike">
                <a:solidFill>
                  <a:srgbClr val="4f6228"/>
                </a:solidFill>
                <a:latin typeface="Calibri"/>
              </a:rPr>
              <a:t>цілеспрямований вплив суб'єктів управління на систему міжнародних фінансів, окремі ланки та елементи за допомогою спеціальних прийомів, методів та інструментів для досягнення цілей і завдань міжнародної фінансової політики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15"/>
          <p:cNvSpPr/>
          <p:nvPr/>
        </p:nvSpPr>
        <p:spPr>
          <a:xfrm>
            <a:off x="4643280" y="535788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3"/>
          <p:cNvSpPr/>
          <p:nvPr/>
        </p:nvSpPr>
        <p:spPr>
          <a:xfrm>
            <a:off x="55440" y="7444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сліджуючи сутність міжнародних фінансами, їх необхідно розглядати з </a:t>
            </a:r>
            <a:r>
              <a:rPr b="1" lang="uk-UA" sz="2000" spc="-1" strike="noStrike">
                <a:solidFill>
                  <a:srgbClr val="17375e"/>
                </a:solidFill>
                <a:latin typeface="Calibri"/>
              </a:rPr>
              <a:t>різних боків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4"/>
          <p:cNvSpPr/>
          <p:nvPr/>
        </p:nvSpPr>
        <p:spPr>
          <a:xfrm>
            <a:off x="-71280" y="1101600"/>
            <a:ext cx="4643280" cy="314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Економічний зміст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це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е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кономічні відносини у грошовій формі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, що виникають у процесі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перерозподілу національних продуктів при руху товарів, послуг і капіталів на світовому ринку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; включають міждержавні й транснаціональні кредитно-фінансові відносини і характеризуються участю в них іноземного еле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5"/>
          <p:cNvSpPr/>
          <p:nvPr/>
        </p:nvSpPr>
        <p:spPr>
          <a:xfrm>
            <a:off x="4668840" y="1214280"/>
            <a:ext cx="4378320" cy="34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З інституційної точки зор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це сукупність міжнародних і регіональних інституцій 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(банків, валютних та фондових бірж, міжнародних фінансових інституцій, регіональних фінансово-кредитних установ),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організацій 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(міжнародних та регіональних економічних організацій і об’єднань),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міжнародного бізнесу</a:t>
            </a: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, через які здійснюється рух світових фінансових пот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627440" y="4781520"/>
            <a:ext cx="417672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Calibri"/>
              </a:rPr>
              <a:t>Особливості міжнародних фінансів як економічних відноси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ідгалуження частини коштів у національній валюті на внутрішньому ринку інших держав та світових господарських ринках. Ці кошти втрачають взаємозв’язок з національною економікою і підпорядковуються правилам міжнародних фінанс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8"/>
          <p:cNvSpPr/>
          <p:nvPr/>
        </p:nvSpPr>
        <p:spPr>
          <a:xfrm>
            <a:off x="0" y="3984480"/>
            <a:ext cx="4286160" cy="284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атерівльниий зміст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це </a:t>
            </a: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фонди фінансових ресурсів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, які утворилися на основі розвитку зовнішньоекономічних відносин і використовуються для забезпечення безперервності й рентабельності суспільного відтворення на світовому рівні та задоволення спільних потреб, які мають міжнародне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0" y="-66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731f"/>
                </a:solidFill>
                <a:latin typeface="Calibri"/>
                <a:ea typeface="Times New Roman"/>
              </a:rPr>
              <a:t>1.</a:t>
            </a:r>
            <a:r>
              <a:rPr b="1" lang="uk-UA" sz="2400" spc="-1" strike="noStrike">
                <a:solidFill>
                  <a:srgbClr val="4b731f"/>
                </a:solidFill>
                <a:latin typeface="Calibri"/>
              </a:rPr>
              <a:t> Сутність міжнародних фінансів</a:t>
            </a:r>
            <a:r>
              <a:rPr b="1" lang="en-US" sz="2400" spc="-1" strike="noStrike">
                <a:solidFill>
                  <a:srgbClr val="4b731f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4b731f"/>
                </a:solidFill>
                <a:latin typeface="Calibri"/>
              </a:rPr>
              <a:t>та їх роль у сучасній світовій економіц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Міжнародні фінанс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це економічна категорія, що відображає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розподільні відносини національних і наднаціональних суб’єктів світової економіки з приводу руху вартості між країнами та у процесі формування й використання грошових фондів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85840" y="1857240"/>
            <a:ext cx="8358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’єктом міжнародних фінансі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є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отоки грошових коштів*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’язані з ними фінансові відносини на світовому р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0" y="857160"/>
            <a:ext cx="8929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уб’єктами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міжнародних фінансів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є фізичні та юридичні особи, уря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міжнародні організації й фінансові інституції, а також банки та інші кредитно-фінансові установ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посередники на міжнародному фінансовому ри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4200" y="3000240"/>
          <a:ext cx="8715600" cy="2880000"/>
        </p:xfrm>
        <a:graphic>
          <a:graphicData uri="http://schemas.openxmlformats.org/drawingml/2006/table">
            <a:tbl>
              <a:tblPr/>
              <a:tblGrid>
                <a:gridCol w="2300400"/>
                <a:gridCol w="6415200"/>
              </a:tblGrid>
              <a:tr h="54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типом економічної взаємодії нерезидент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внішньоторговельні. Капітальні. Спекулятивні. Балансуючі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формою міжнародних фінансових ресурс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формі офіційної міжнародної фінансової допомоги, цінних паперів і банківських кредитів, офіційних і приватних золотовалютних резерв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776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видами економічної діяльност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 розрахунків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товари та послуги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чні та капіталь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ферти у грошовій формі. Кредитні ресурси. Прямі та портфельні інвестиції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них актив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ходом прав власност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офіційних джерел в офіційну власність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риватних джерел у приватну власність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офіційних джерел у приватну власність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оки, спрямовані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риватних джерел в офіційну власні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" name="Прямоугольник 7"/>
          <p:cNvSpPr/>
          <p:nvPr/>
        </p:nvSpPr>
        <p:spPr>
          <a:xfrm>
            <a:off x="0" y="5929200"/>
            <a:ext cx="528624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іжнародні валютно-фінансові потоки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— це потоки іноземних валю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бо будь-яких інших фінансових активів, що зумовлені економічною діяльністю суб’єктів світового госпо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Скругленный прямоугольник 8"/>
          <p:cNvGrpSpPr/>
          <p:nvPr/>
        </p:nvGrpSpPr>
        <p:grpSpPr>
          <a:xfrm>
            <a:off x="1517760" y="2505240"/>
            <a:ext cx="5968800" cy="603000"/>
            <a:chOff x="1517760" y="2505240"/>
            <a:chExt cx="5968800" cy="603000"/>
          </a:xfrm>
        </p:grpSpPr>
        <p:pic>
          <p:nvPicPr>
            <p:cNvPr id="62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517760" y="2505240"/>
              <a:ext cx="59688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89040" y="2589120"/>
              <a:ext cx="5823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c000"/>
                  </a:solidFill>
                  <a:latin typeface="Calibri"/>
                </a:rPr>
                <a:t>Класифікація валютно-фінансових поток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TextBox 9"/>
          <p:cNvGrpSpPr/>
          <p:nvPr/>
        </p:nvGrpSpPr>
        <p:grpSpPr>
          <a:xfrm>
            <a:off x="5376960" y="5956200"/>
            <a:ext cx="3822480" cy="779400"/>
            <a:chOff x="5376960" y="5956200"/>
            <a:chExt cx="3822480" cy="779400"/>
          </a:xfrm>
        </p:grpSpPr>
        <p:pic>
          <p:nvPicPr>
            <p:cNvPr id="65" name="TextBox 9" descr=""/>
            <p:cNvPicPr/>
            <p:nvPr/>
          </p:nvPicPr>
          <p:blipFill>
            <a:blip r:embed="rId2"/>
            <a:stretch/>
          </p:blipFill>
          <p:spPr>
            <a:xfrm>
              <a:off x="5376960" y="5956200"/>
              <a:ext cx="38224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429160" y="6000840"/>
              <a:ext cx="371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c00000"/>
                  </a:solidFill>
                  <a:latin typeface="Calibri"/>
                </a:rPr>
                <a:t>Функції міжнародних фінанс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ffff00"/>
                  </a:solidFill>
                  <a:latin typeface="Calibri"/>
                </a:rPr>
                <a:t>Розподільча                           Контроль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3429000" y="3214800"/>
            <a:ext cx="221472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00"/>
                </a:solidFill>
                <a:latin typeface="Calibri"/>
              </a:rPr>
              <a:t>Система міжнародних фінан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с одним скругленным углом 4"/>
          <p:cNvSpPr/>
          <p:nvPr/>
        </p:nvSpPr>
        <p:spPr>
          <a:xfrm>
            <a:off x="0" y="1000080"/>
            <a:ext cx="4786200" cy="20001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вітова валютна система та міжнародні валютні опер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 національні та резервні валюти, міжнародні колективні валюти, умови взаємної конвертованості, валютний паритет, валютний курс, національні та міжнародні механізми регулювання валютних курсів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с одним скругленным углом 5"/>
          <p:cNvSpPr/>
          <p:nvPr/>
        </p:nvSpPr>
        <p:spPr>
          <a:xfrm>
            <a:off x="5214960" y="1000080"/>
            <a:ext cx="3929040" cy="20718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і розраху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кономічні відносини з приводу обміну валют на валютних ринках, що здійснюються переважно у безготівковій формі шляхом відповідних записів на банківських рахунках в уповноважених банк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с одним скругленным углом 6"/>
          <p:cNvSpPr/>
          <p:nvPr/>
        </p:nvSpPr>
        <p:spPr>
          <a:xfrm>
            <a:off x="0" y="5214960"/>
            <a:ext cx="3643200" cy="16430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і фінансові ринк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ханізми торгівлі конкретними фінансовими інструментами – валютою, кредитами, цінними па-перами тощ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с одним скругленным углом 7"/>
          <p:cNvSpPr/>
          <p:nvPr/>
        </p:nvSpPr>
        <p:spPr>
          <a:xfrm>
            <a:off x="5643720" y="3286080"/>
            <a:ext cx="3357360" cy="1571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е оподатк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никнення подвійного оподаткування, оподаткування в економічних співтовариств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с одним скругленным углом 8"/>
          <p:cNvSpPr/>
          <p:nvPr/>
        </p:nvSpPr>
        <p:spPr>
          <a:xfrm>
            <a:off x="214200" y="3071880"/>
            <a:ext cx="3143520" cy="19288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іжнародний фінансови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правління фінансами міжнародного бізнесу (ТНК), фінансами міжнародних інституцій і організаці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с одним скругленным углом 9"/>
          <p:cNvSpPr/>
          <p:nvPr/>
        </p:nvSpPr>
        <p:spPr>
          <a:xfrm>
            <a:off x="4071960" y="5072040"/>
            <a:ext cx="4786200" cy="14288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Фінанси міжнародних інституц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ВФ, МБР, Група Світового Банку, ЄІБ, ЄБРР тощ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Фінанси міжнародних організац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ЄС, ООН та і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Міжнародні фінанс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є однією з визначальних підсистем світового го-сподарства, яка справляє вирішальний вплив на національну та світову економі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rcRect l="15135" t="26378" r="13475" b="8656"/>
          <a:stretch/>
        </p:blipFill>
        <p:spPr>
          <a:xfrm>
            <a:off x="4743360" y="998640"/>
            <a:ext cx="422280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Прямоугольник 4"/>
          <p:cNvSpPr/>
          <p:nvPr/>
        </p:nvSpPr>
        <p:spPr>
          <a:xfrm>
            <a:off x="2610000" y="6480"/>
            <a:ext cx="41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2.     </a:t>
            </a:r>
            <a:r>
              <a:rPr b="1" lang="uk-UA" sz="2000" spc="-1" strike="noStrike">
                <a:solidFill>
                  <a:srgbClr val="92d050"/>
                </a:solidFill>
                <a:latin typeface="Calibri"/>
              </a:rPr>
              <a:t>Світові фінансові р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30320" y="406440"/>
            <a:ext cx="88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вітовиий фінансовий ринок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истема ринкових відносин, яка забезпечує акумуляцію та перерозподіл міжнародних фінансов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к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30320" y="1197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ітовий фінансовий ринок поділяється на </a:t>
            </a:r>
            <a:r>
              <a:rPr b="1" i="1" lang="ru-RU" sz="1600" spc="-1" strike="noStrike">
                <a:solidFill>
                  <a:srgbClr val="92d050"/>
                </a:solidFill>
                <a:latin typeface="Calibri"/>
              </a:rPr>
              <a:t>міжнародні</a:t>
            </a:r>
            <a:r>
              <a:rPr b="1" i="1" lang="en-US" sz="1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92d050"/>
                </a:solidFill>
                <a:latin typeface="Calibri"/>
              </a:rPr>
              <a:t>валютні ринки, міжнародні ринки боргових зобов’язань, міжнародні ринки</a:t>
            </a:r>
            <a:r>
              <a:rPr b="1" i="1" lang="en-US" sz="1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92d050"/>
                </a:solidFill>
                <a:latin typeface="Calibri"/>
              </a:rPr>
              <a:t>цінних паперів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кожний з яких включає євроринок (ринки євродепозитів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єврокредитів, євроакцій, єврооблігацій, євровекселів та і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30320" y="3184560"/>
            <a:ext cx="3936960" cy="3077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часний світовий фінансовий ринок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характеризуєть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начним обсягом фінансових ресурсів та операцій, які здійснюються цілодобово, у більшості своїй уніфіковані і до яких залучаються суб’єкти з високим рейтинг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асуванням обмежень на фінансові потоки через національні кордони, таких, як контроль капіталів та обмеження обігу іноземних вал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соким рівнем використання інформаційних технологій, які зменшують вартість трансакцій між краї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стосуванням різноманітних фінансових інструмент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4284720" y="322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сновні тенденції, що спостерігаються на світовому фінансовому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284720" y="3873600"/>
            <a:ext cx="4572000" cy="277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ворення валютних блоків навколо провідних валют сві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мінюється структура фінансових інструментів ринку на користь інструментів реального сектора — корпоративних цінних паперів та їх похід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ндові ринки є головним структуроутворювальним чин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інансового сек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ростання взаємозв’язку між фінансовим та реальним секторами економі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b731f"/>
                </a:solidFill>
                <a:latin typeface="Calibri"/>
              </a:rPr>
              <a:t>3. Міжнародна валютна система та її особливості. Валютний ринок і валютний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50920" y="722160"/>
            <a:ext cx="345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алю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це грошова одиниця, що використовується для вимірювання величини вартості това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52280" y="1897200"/>
            <a:ext cx="365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731f"/>
                </a:solidFill>
                <a:latin typeface="Times New Roman"/>
              </a:rPr>
              <a:t>національна валюта; іноземна валюта; міжнародна (регіональна) валю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7000" y="768240"/>
          <a:ext cx="5162400" cy="1646280"/>
        </p:xfrm>
        <a:graphic>
          <a:graphicData uri="http://schemas.openxmlformats.org/drawingml/2006/table">
            <a:tbl>
              <a:tblPr/>
              <a:tblGrid>
                <a:gridCol w="2133360"/>
                <a:gridCol w="30290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ідношенню до курсів інших вал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ьну (тверд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слабку (м’яку) валю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матеріально-речовою форм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івковою і безготівков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ринципом побуд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ошикового» типу і звичайн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пінь конвертова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ністю конвертовані, частково конвертовані та неконвертован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6" name="Прямоугольник 9"/>
          <p:cNvSpPr/>
          <p:nvPr/>
        </p:nvSpPr>
        <p:spPr>
          <a:xfrm>
            <a:off x="250920" y="2638440"/>
            <a:ext cx="8281800" cy="1067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Calibri"/>
              </a:rPr>
              <a:t>Обмінний валютний курс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— ц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кількість одиниц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днієї валюти, яка необхідна для придбання одиниці іншої валю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ринкові цін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днієї валюти, виражені в іншій валю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сукупність цін валю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взаємопов’язаних тристороннім арбітраж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1"/>
          <a:srcRect l="22882" t="42126" r="17348" b="7672"/>
          <a:stretch/>
        </p:blipFill>
        <p:spPr>
          <a:xfrm>
            <a:off x="22320" y="4094280"/>
            <a:ext cx="3470040" cy="2359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3274920" y="3765600"/>
            <a:ext cx="5773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цінки темпів економічного розвитку використовують </a:t>
            </a:r>
            <a:r>
              <a:rPr b="1" i="1" lang="ru-RU" sz="1600" spc="-1" strike="noStrike">
                <a:solidFill>
                  <a:srgbClr val="00b050"/>
                </a:solidFill>
                <a:latin typeface="Calibri"/>
              </a:rPr>
              <a:t>декілька розрахункових видів валютних курсі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Номіналь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Це — курс між двома валютами, тобто відносна ціна двох валют (пропозиція їх обміну однієї на інш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Реаль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Це — номінальний валютний курс, скорегований на відносний рівень цін у своїй країні і в тій країні, до валюти якої котирується національна валю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Номінальний ефектив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ін розраховується як співвідношення між національною валютою і валютами інших країн, зваженим у відповідності з питомою вагою цих країн у валютних операціях даної краї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Calibri"/>
              </a:rPr>
              <a:t>Реальний ефективний валютний курс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Це номінальний ефективний валютний курс, скоригований на зміну рівня цін або інших показників витрат виробництва, який показує динаміку реального валютного курсу даної країни до валют країн — основних торговельних партнер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2021040" y="1954080"/>
            <a:ext cx="684036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іональна форма організації міжнародних валютних відносин, тобто сукупність способів, інструментів та органів (інститутів), за допомогою яких здійснюються грошові розрахунки в рамках світового госпо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0" y="195408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4b731f"/>
                </a:solidFill>
                <a:latin typeface="Arial"/>
              </a:rPr>
              <a:t>Міжнародна валют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244440" y="3573360"/>
            <a:ext cx="86407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Елементи міжнародної валютної систе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національні резервні та наднаціональні (колективні) валютні одиниц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умови взаємної конвертованості валю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уніфікований режим валютних паритеті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регламентація режимів валютних курсів; міждержавне регулювання валютних обмеж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уніфікація міжнародних розрахунк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режим світових валютних ринків і ринків золо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Calibri"/>
              </a:rPr>
              <a:t>міждержавні регіональні та наддержавні органи, що займаються регулюванням валютно-фінансових зв’язків і відно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-227160" y="968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4b731f"/>
                </a:solidFill>
                <a:latin typeface="Times New Roman"/>
                <a:ea typeface="Times New Roman"/>
              </a:rPr>
              <a:t>Міжнародний валютний р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Прямоугольник 12"/>
          <p:cNvGrpSpPr/>
          <p:nvPr/>
        </p:nvGrpSpPr>
        <p:grpSpPr>
          <a:xfrm>
            <a:off x="2084400" y="23760"/>
            <a:ext cx="7004160" cy="909720"/>
            <a:chOff x="2084400" y="23760"/>
            <a:chExt cx="7004160" cy="909720"/>
          </a:xfrm>
        </p:grpSpPr>
        <p:pic>
          <p:nvPicPr>
            <p:cNvPr id="94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2084400" y="23760"/>
              <a:ext cx="700416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95640" y="96840"/>
              <a:ext cx="68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—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це міжнародна мережа офіційних центрів, де відбувається купівля-продаж іноземних валю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13"/>
          <p:cNvSpPr/>
          <p:nvPr/>
        </p:nvSpPr>
        <p:spPr>
          <a:xfrm>
            <a:off x="155520" y="885960"/>
            <a:ext cx="870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і ринки забезпечують своєчасність здійснення міжнародних платежів і розрахунків, страхування валютно-кредитних ризиків, диверсифікації валютних резер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16"/>
          <p:cNvSpPr/>
          <p:nvPr/>
        </p:nvSpPr>
        <p:spPr>
          <a:xfrm>
            <a:off x="1224000" y="61920"/>
            <a:ext cx="6553080" cy="4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Calibri"/>
              </a:rPr>
              <a:t>Еволюція світової валютної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5160" y="490680"/>
          <a:ext cx="9078840" cy="6372000"/>
        </p:xfrm>
        <a:graphic>
          <a:graphicData uri="http://schemas.openxmlformats.org/drawingml/2006/table">
            <a:tbl>
              <a:tblPr/>
              <a:tblGrid>
                <a:gridCol w="1217520"/>
                <a:gridCol w="2703600"/>
                <a:gridCol w="5157720"/>
              </a:tblGrid>
              <a:tr h="63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та місце юридичного оформ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9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Париз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народна  угода на конференції в Париж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(1867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визнавала золото єдиною формою світових грошей. Основою валютної системи виступав золотомонетний (золотий) стандарт. Система з фіксованими курс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Генуез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державна умова Генуезької міжнародної економічної конференції (1922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основою системи виступали золото та девізи (іноземні валюти); золоті паритети були збережені; валютні курси вільно коливалися; валютне регулювання здійснювалось у формі міжнародних конференцій, нарад, активної валютної полі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Бреттон-Вудс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народна конференція в Бреттон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Вудс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(1944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ґрунтувалась на золотовалютному стандарті; установлення фіксованих паритетів, погоджених в рамках МВФ, на основі яких порівнювалися і обмінювалися валюти; конвертованість валют, свобода і багатосторонність платежів 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поточними операціями; заборона вільної (приватної) купівлі-продажу зол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72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Ямайська валютна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Міжнародна Ямайська конференці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(1978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b731f"/>
                          </a:solidFill>
                          <a:latin typeface="Calibri"/>
                        </a:rPr>
                        <a:t>закріплена відмова від фіксованих паритетів (1973 р. були введені плаваючі валютні курси); спирається на СДР (колективну валюту МВФ); дозволяє як фіксовані, так і плаваючі валютні курси або їх змішаний варіант; наявність замкнутих валютних блоків; права МВФ по нагляду за валютними курсами розширен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24000" y="385920"/>
            <a:ext cx="6840720" cy="1067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є системою регулювання платежів за грошовими вимогами та зобов’язаннями, що виникають між суб’єктами міжнародної економічної діяльності на основі політичних, економічних, науково-технічних та інших віднос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Прямоугольник 4"/>
          <p:cNvGrpSpPr/>
          <p:nvPr/>
        </p:nvGrpSpPr>
        <p:grpSpPr>
          <a:xfrm>
            <a:off x="92160" y="512640"/>
            <a:ext cx="2084400" cy="878040"/>
            <a:chOff x="92160" y="512640"/>
            <a:chExt cx="2084400" cy="878040"/>
          </a:xfrm>
        </p:grpSpPr>
        <p:pic>
          <p:nvPicPr>
            <p:cNvPr id="10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2160" y="512640"/>
              <a:ext cx="2084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98360" y="574560"/>
              <a:ext cx="17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00"/>
                  </a:solidFill>
                  <a:latin typeface="Calibri"/>
                </a:rPr>
                <a:t>Міжнародні розрахун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Прямоугольник 5"/>
          <p:cNvSpPr/>
          <p:nvPr/>
        </p:nvSpPr>
        <p:spPr>
          <a:xfrm>
            <a:off x="198360" y="1438200"/>
            <a:ext cx="5526000" cy="2058480"/>
          </a:xfrm>
          <a:prstGeom prst="upArrowCallout">
            <a:avLst>
              <a:gd name="adj1" fmla="val 13871"/>
              <a:gd name="adj2" fmla="val 18319"/>
              <a:gd name="adj3" fmla="val 10500"/>
              <a:gd name="adj4" fmla="val 30987"/>
            </a:avLst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омерційні платежі за грошовими вимогами і зобов’язання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що виникають між підприємствами, банками, установами й окремими особами різних країн, пов’язані з міжнародною торгівлею, міжнародним кредитом, прямими іноземними інвестиціями тощ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684360" y="3917880"/>
            <a:ext cx="7991280" cy="277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економічні та політичні відносини між краї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становище країни на товарних і грошових ринк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ступінь використання та ефективність державних заходів щодо зовнішньоекономічного регулюва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міжнародні торговельні правила та звича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регулювання міждержавних товарних потоків, послуг і капітал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відмінності в темпах інфляції в різних країн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стан платіжного баланс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банківська практ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умови зовнішньоторговельних контрактів та кредитних уг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конвертованість валют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1357200" y="0"/>
            <a:ext cx="6286680" cy="357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b731f"/>
                </a:solidFill>
                <a:latin typeface="Calibri"/>
              </a:rPr>
              <a:t>Міжнародні розраху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1547640" y="3510000"/>
            <a:ext cx="6929640" cy="368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Фактори, що визначають стан міжнародних розрахунк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5907240" y="1568520"/>
            <a:ext cx="3031920" cy="1550520"/>
          </a:xfrm>
          <a:prstGeom prst="upArrowCallout">
            <a:avLst>
              <a:gd name="adj1" fmla="val 13870"/>
              <a:gd name="adj2" fmla="val 18350"/>
              <a:gd name="adj3" fmla="val 10500"/>
              <a:gd name="adj4" fmla="val 30987"/>
            </a:avLst>
          </a:prstGeom>
          <a:solidFill>
            <a:srgbClr val="ffffff"/>
          </a:solidFill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некомерційні платеж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і, пов’язані з перевезенням пасажирів, страхуванням, туризмом, переказом грошей за кордон тощ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9T11:29:35Z</dcterms:created>
  <dc:creator>s.arhipov</dc:creator>
  <dc:description/>
  <dc:language>en-US</dc:language>
  <cp:lastModifiedBy>В</cp:lastModifiedBy>
  <dcterms:modified xsi:type="dcterms:W3CDTF">2020-09-08T19:51:22Z</dcterms:modified>
  <cp:revision>116</cp:revision>
  <dc:subject/>
  <dc:title>ПОДАТКИ. ПОДАТКОВА СИСТЕМА</dc:title>
</cp:coreProperties>
</file>