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A6DB-802F-4139-9DCD-64F8E18F4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97C8-5B98-4B05-BCA0-3BCDDE41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579B-7D7C-4DA7-BA08-7AA4D057C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1CBE-ACEF-4062-8934-17A5AA3A9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E668-F187-4028-AF3A-9FAB0C621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2526-E2DA-4506-B270-CDD5661C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0B4F-9D8F-4E15-A624-753E02F0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5EC8-F871-4C05-910C-1A1C60C0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19AD-4B02-41BA-BB6D-C56DDB37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C9BB-A00D-4066-96C9-9C34779B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734F-A35D-4ADE-8FD3-6E2DF8C5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ED8E-450A-480A-944F-47984F53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47A4-A151-45CB-B446-D19A30EE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F517-C92E-4266-8399-694132DF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783F-3467-4522-A7BE-4B654860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AC5D4-D678-4AFF-A217-F49FAA9E8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5FE0-321D-4A1E-B855-3EBEEE595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B0CB6-8B68-4654-8692-7C5E36987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F94B0-5573-433C-9C93-4E226D50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FCC7B-E2C5-484E-8DBF-5D3F38B7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9E7BA-6822-4C42-A9F4-DD5DEF2F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2C9FA-23F1-4E16-9BE6-DE10C671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3BA5-BCAA-48AB-BD47-644B34AF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5F1A0-721B-488E-89FF-8FC7B03B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7A64B-30E5-4A31-8435-20086C38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17730-48F7-445E-84AF-FB8DEB5C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D8414-48BB-48C3-AF61-9ED27A91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82DAB-4D1D-4C37-B225-DDCB04C2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1B583-5AB0-4121-A79A-EAD574CEF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DC839-F206-458B-80FB-CE47BCF20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2F21B-49FF-4E3C-BA26-EC8489861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BD448-52EF-415C-8AE7-60A5DEA5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419E3-CB5E-4647-A3E2-C31E2F43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2B55-5DA4-421F-A9C3-00949BEF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A7AB2-7301-48EB-9573-7F5AED6E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AC314-CB9D-4D99-B8A0-0DFD7D34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3BA18-56B6-4FE0-885F-C02938FA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54948-EE5E-41E6-AB62-F1F50445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05F36-058B-4FDF-8980-2DE25E1C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8F49C-CAC5-42A7-9E74-BCD9FC9A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88C58-8D7E-47DC-814E-B083CFFC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C6587-16AE-45F4-AEDC-6B063DF89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B993F-D05F-4EA5-9213-85653C1ED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FE06-4337-4E49-8D03-85FA454C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1BB2-5291-4F24-A5B5-7BC2C70D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9B33-CF66-4731-9BBA-CB86A753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7656-8A17-44E3-AE9B-ABB1F221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A7D4-43BE-4C9F-96F9-956B1DE0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FD49-2CA5-40F7-8CBB-05FA04A0BD2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17B6-040E-4BDA-8A0D-F1A1E934304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85F2-F9E4-4236-B03C-685E5B6A4FF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15D3-DF01-4ACA-9DAD-0204AC02A52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8"/>
          <p:cNvSpPr/>
          <p:nvPr/>
        </p:nvSpPr>
        <p:spPr>
          <a:xfrm>
            <a:off x="108000" y="2924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РОПЕРЕЙТИН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"/>
          <p:cNvSpPr/>
          <p:nvPr/>
        </p:nvSpPr>
        <p:spPr>
          <a:xfrm>
            <a:off x="0" y="344016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"/>
          <p:cNvSpPr/>
          <p:nvPr/>
        </p:nvSpPr>
        <p:spPr>
          <a:xfrm>
            <a:off x="643320" y="549720"/>
            <a:ext cx="66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основних завдань туроператорів віднося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250920" y="1137240"/>
            <a:ext cx="86421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вчення потреб потенційних туристів на тури та туристичні прогр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ання маршрутів та перспективних програм обслуговування турист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ємодію з постачальниками послу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ахунок вартості туру та визначення ці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ізацію тур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не забезпечення тур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езпечення туристів необхідним та спеціальним спорядженням, сувенірною та рекламно-інформаційною продукціє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готовку, підбір та призначення спеціалістів на маршрути подорожей (екскурсоводи, інструктори, гіди-перекладачі тощо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ламно-інформаційну роботу щодо просування туристичного продукту до споживач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за якістю, надійністю та безпекою туристичного обслуговув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Рисунок 3" descr="fedynec22.jpg"/>
          <p:cNvPicPr/>
          <p:nvPr/>
        </p:nvPicPr>
        <p:blipFill>
          <a:blip r:embed="rId1"/>
          <a:stretch/>
        </p:blipFill>
        <p:spPr>
          <a:xfrm>
            <a:off x="468360" y="549360"/>
            <a:ext cx="7896240" cy="473688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1"/>
          <p:cNvSpPr/>
          <p:nvPr/>
        </p:nvSpPr>
        <p:spPr>
          <a:xfrm>
            <a:off x="1789920" y="5517360"/>
            <a:ext cx="53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і функції туроператора та тураген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"/>
          <p:cNvSpPr/>
          <p:nvPr/>
        </p:nvSpPr>
        <p:spPr>
          <a:xfrm>
            <a:off x="0" y="21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пецифікою функціонування на ринку туристичних послуг вирізняють чотири основних типи туроператорі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0" y="98532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ор масового ринку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найбільш відомий тип операторів. Сутність діяльності для даного типу полягає у формуванні, купівлі і продажу турпакетів у добре відомі туристичні центри й курорти, перевезення клієнтів до яких здійснюється приватними авіакомпаніями або чартерними рейс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0" y="22147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роператори, які спеціалізуються на певному сегменті (напрямі) туристичного ринку,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найбільш поширений тип туроператорів, який поділяється на декілька категорі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уроператори, які пропонують пакети для певної категорії споживачів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уроператори, які пропонують пакети на певні напрямки-дестинації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уроператори, які пропонують пакет турпослуг у певних туристичних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уроператори, які пропонують турпродукт, пов'язаний з перевезеннями клієнтури на певному виді транспорту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уроператори, які пропонують специфічні ту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0" y="4654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роператори внутрішнього ринку (domestic),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кі продають турпакети в межах країни проживання, тобто турпродукт реалізується на національному рівн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7"/>
          <p:cNvSpPr/>
          <p:nvPr/>
        </p:nvSpPr>
        <p:spPr>
          <a:xfrm>
            <a:off x="0" y="5661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роператори зовнішнього ринку (international) -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ворюють пакети і продають їх у різні країни. Найчастіше їх діяльність пов'язана з тими країнами, з яких приїздить більшість туристі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"/>
          <p:cNvSpPr/>
          <p:nvPr/>
        </p:nvSpPr>
        <p:spPr>
          <a:xfrm>
            <a:off x="478080" y="549720"/>
            <a:ext cx="82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Туроператор та турагент, їх суть та основні відмінност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179280" y="1927800"/>
            <a:ext cx="8713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ристичний продук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вляє собою комплекс послуг і товарів, матеріальних і нематеріальних благ та ресурсів, призначених для туристичного споживання, що реалізуються на ринку туристичних послуг. Він є здебільшого вузькоспеціалізованим, має складну, динамічну структуру, пристосовану до зміни попиту, і здатен забезпечити задоволення різноманітних потреб людини, що подорожує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"/>
          <p:cNvSpPr/>
          <p:nvPr/>
        </p:nvSpPr>
        <p:spPr>
          <a:xfrm>
            <a:off x="1665360" y="74880"/>
            <a:ext cx="581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уб'єкти ринкової діяльності на ринку виробника турпродук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79280" y="333360"/>
          <a:ext cx="8964720" cy="6588000"/>
        </p:xfrm>
        <a:graphic>
          <a:graphicData uri="http://schemas.openxmlformats.org/drawingml/2006/table">
            <a:tbl>
              <a:tblPr/>
              <a:tblGrid>
                <a:gridCol w="1368360"/>
                <a:gridCol w="2217960"/>
                <a:gridCol w="1792080"/>
                <a:gridCol w="2117880"/>
                <a:gridCol w="1468440"/>
              </a:tblGrid>
              <a:tr h="365400">
                <a:tc rowSpan="2"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пінь інтегрованос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центи основних видів послуг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обники комплексного продук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міщення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 харч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звіл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636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посередньо задіяні в туризм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тельні та ресторанні мережі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емі готелі та підприємства харчування; Котеджі та апартаменти; інші засоби розміщ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і підприємства 3 усіх видів пасажирських перевезень, що здійснюють регулярні та чартерні рейс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приємства з організації екскурсій;видовищ; спортивних міроприємств; шоу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ади культури; парки; спеціалізовані вид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оператори;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аген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684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осередковано задіяні в туризм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ісцеві підприємс­тва соціальної інфраструктури; Агентства з продажу нерухомості; Виробники продуктів харчування; виробники обладнання для готелів і ресторанів; земельні власники; будівельні компан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приєм­ства транспортної інфраструктури (вокзали, аеропорти); виробники транспортих засобів; виробники пального та масти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обники спортивно­го обладнання та спорт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варів; виробники аудіо-, відеотехніки та продукції; засоби масової інформац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рми-консультанти з дизайну, реклами, маркетин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3"/>
          <p:cNvSpPr/>
          <p:nvPr/>
        </p:nvSpPr>
        <p:spPr>
          <a:xfrm>
            <a:off x="0" y="83664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роператори -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потужні туристичні фірми, що спеціалізуються на розробці комплексного турпродукту і його оптовій реалізації. Діяльність туроператорів полягає у складанні з окремих туристичних послуг комплексних турів, що пропонуються споживачеві за фіксованою ціно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"/>
          <p:cNvSpPr/>
          <p:nvPr/>
        </p:nvSpPr>
        <p:spPr>
          <a:xfrm>
            <a:off x="0" y="22071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характером діяльності, територіальним рівнем і формою організації туроператори поділяються на ініціативних і рецептивн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5"/>
          <p:cNvSpPr/>
          <p:nvPr/>
        </p:nvSpPr>
        <p:spPr>
          <a:xfrm>
            <a:off x="0" y="306864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іціативні туроператори -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 ті, що спеціалізуються на міжнародному туризмі, орієнтовані переважно на зарубіжний туризм і здійснюють свою діяльність на основі прямих угод з продуцентами послуг (готелі, транспортні компанії тощо) або з рецептивними туроператор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0" y="469764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цептивні туроператори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еціалізуються на іноземному туризмі, комплектуючи тури і програми обслуговування п місцях прийому туристів на основі прямих угод з продуцентами послуг (готелі, підприємства харчування, дозвіллєві заклади тощ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Рисунок 3" descr="lubiceva_mrt1.jpg"/>
          <p:cNvPicPr/>
          <p:nvPr/>
        </p:nvPicPr>
        <p:blipFill>
          <a:blip r:embed="rId1"/>
          <a:stretch/>
        </p:blipFill>
        <p:spPr>
          <a:xfrm>
            <a:off x="1187280" y="1125360"/>
            <a:ext cx="7169400" cy="460728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4"/>
          <p:cNvSpPr/>
          <p:nvPr/>
        </p:nvSpPr>
        <p:spPr>
          <a:xfrm>
            <a:off x="3132000" y="5877000"/>
            <a:ext cx="352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.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туроперейтин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Рисунок 3" descr="lubiceva_mrt2.jpg"/>
          <p:cNvPicPr/>
          <p:nvPr/>
        </p:nvPicPr>
        <p:blipFill>
          <a:blip r:embed="rId1"/>
          <a:stretch/>
        </p:blipFill>
        <p:spPr>
          <a:xfrm>
            <a:off x="1258920" y="692280"/>
            <a:ext cx="6408720" cy="477972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4"/>
          <p:cNvSpPr/>
          <p:nvPr/>
        </p:nvSpPr>
        <p:spPr>
          <a:xfrm>
            <a:off x="1042920" y="580536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.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фікація туроператорів за рівнем спеціалізації</a:t>
            </a: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349200" y="333720"/>
            <a:ext cx="66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ункції туроператора та їх характерис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0" y="1125360"/>
            <a:ext cx="8748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овими суб'єктами туристичної діяльності, які взаємодіють у процесі розробки та реалізації турпродукту, надання й споживання туристичних послуг, є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обник (організатор) і гуртовий продавець туру -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роперато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навці туристичних послуг (контрагенти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ідприємства і компанії, які надають окремі послуги з розміщення, харчування, транспортні, екскурсійні, страхові, послуги, які пов'язані з оформленням закордонних паспортів і віз, бронюванням і купівлею квитків. Вони виступають як національні або іноземні контрагенти, які постачають туроператорам послуги, що входять у ту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дрібний продавець -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раген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рист (споживач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будь-яка фізична особа, яка використовує, купує або має намір придбати туристичні послуги (турпродукт) для особистих потре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"/>
          <p:cNvSpPr/>
          <p:nvPr/>
        </p:nvSpPr>
        <p:spPr>
          <a:xfrm>
            <a:off x="0" y="1076040"/>
            <a:ext cx="9144000" cy="4786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роператор -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сподарюючий суб'єкт або індивідуальний підприємець, який розробляє туристичні маршрути, забезпечує їх функціонування, організовує рекламу, встановлює ціни на тури турагентам для випуску за ними путівок і їх реалізаці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 туроператорською діяльністю розуміють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іяльність щодо формування, просування і реалізації туристичного продукту, яка здійснюється на підставі ліцензії юридичною особою або індивідуальним підприємц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"/>
          <p:cNvSpPr/>
          <p:nvPr/>
        </p:nvSpPr>
        <p:spPr>
          <a:xfrm>
            <a:off x="287280" y="71172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обничо-обслуговуюча діяльність туроператорів передбачає: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0" y="193320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вання (комплектацію) турів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ування турів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ртову реалізацію турів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езпечення обслуговування туристів у межах програми туру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і оперативний супровід турів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альність за виконання робі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0T17:20:32Z</dcterms:created>
  <dc:creator>Маша</dc:creator>
  <dc:description/>
  <dc:language>en-US</dc:language>
  <cp:lastModifiedBy>USER</cp:lastModifiedBy>
  <dcterms:modified xsi:type="dcterms:W3CDTF">2020-10-19T15:43:44Z</dcterms:modified>
  <cp:revision>22</cp:revision>
  <dc:subject/>
  <dc:title>Слайд 1</dc:title>
</cp:coreProperties>
</file>