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253-69DB-45FA-B10C-FCE56724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94B-C8BB-43DC-92A1-2AE20C8C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5B2-1096-4F84-A55F-26239E7D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901-E268-4B59-9163-4D33046D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6832-1408-432D-A84D-766A233D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23DA-D39B-4984-871D-6FA37EC2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62D3-C98B-4E52-A95C-5F436E4D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C73C-92E1-4DDF-A6F0-C126BF47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35CE-FB4B-4E4F-92FD-E37304B9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54F3-6857-48E4-BF16-4403DD8D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9727-3455-41C4-B114-1924ABF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B6D-9DAD-47AF-A426-46B34427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C5F5-BC82-45FD-8756-5653FC1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B4EB-F534-4891-A31C-6C44FD5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728F-546F-4E47-93A2-BBA087AE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F877-469C-473F-A39C-CE7A81D8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B3A1-AF2E-4612-A9EC-0F8606E6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723DF-347B-44E7-99BE-E1F7E06A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0DEA-59C0-4ECA-B143-F9B95EB9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7767-3796-4171-AE32-2B133945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6836-169C-4A79-B7A5-511FCE32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DD88-E085-4354-9A11-30B06961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FDF-8875-4E93-BBA3-175B0C4B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D2B8-078C-4E13-92C1-E1EB5B4C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A3CE-EED3-46E3-A54D-BC7A2696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EF04-45A8-4822-8010-426698E2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B46E-D01A-4A4E-B57D-3AB3E511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E539-7D99-40CD-BE58-85DA830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ED0D-3404-4DF1-92EF-F938AF44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2F4E-FF05-4627-B9A6-74B9C95B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C94C-51A9-43AE-AFCB-3190FEAF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D6F4-52E7-48E6-A137-7C60D29B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1F591-BB1E-4E15-B8E2-3BF59B4A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299-11AD-494A-9430-83CD57C2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E75C8-C157-4467-A96F-142E515D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964F7-B3E9-4CFD-93FA-376184F3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8C54-4DC9-4030-8636-AA826D82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E19B-3504-4D81-A7CF-1CE5B146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333F-823F-4D0B-AFFD-851A5BC7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69BA-C523-42C9-86E7-D8752C5E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30D1-1B1E-4FB5-946E-7E169B4F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5CF0C-4E4B-4E19-88B3-2CAB7282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A0D7-9BC4-4983-B732-17A989E6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52E-390A-42A0-848A-803E37D3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BC9-6EA4-468D-8671-DCC61854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2F9-0163-40A1-9B49-1F7E0D10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1BE-4FF4-40B6-9981-C8C38CC7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523-322C-4612-B2DB-4B71F10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EB96-AD15-4443-AE83-21F503DEE33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0F9E-A9E1-4D23-95A1-DF0FE955AA5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9B17-13B3-4583-AED8-0565D8BB5D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FEF7-0BAF-4062-9713-48785598D4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8"/>
          <p:cNvSpPr/>
          <p:nvPr/>
        </p:nvSpPr>
        <p:spPr>
          <a:xfrm>
            <a:off x="108000" y="29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ЕЙТИН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0" y="34401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643320" y="549720"/>
            <a:ext cx="66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сновних завдань туроператорів віднос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250920" y="113724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ення потреб потенційних туристів на тури та туристичні прогр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ння маршрутів та перспективних програм обслуговування турис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ємодію з постачальниками по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ахунок вартості туру та визначення ці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ю тур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не забезпечення тур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ення туристів необхідним та спеціальним спорядженням, сувенірною та рекламно-інформаційн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овку, підбір та призначення спеціалістів на маршрути подорожей (екскурсоводи, інструктори, гіди-перекладачі тощ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о-інформаційну роботу щодо просування туристичного продукту до споживач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якістю, надійністю та безпекою туристичного обслугов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fedynec22.jpg"/>
          <p:cNvPicPr/>
          <p:nvPr/>
        </p:nvPicPr>
        <p:blipFill>
          <a:blip r:embed="rId1"/>
          <a:stretch/>
        </p:blipFill>
        <p:spPr>
          <a:xfrm>
            <a:off x="468360" y="549360"/>
            <a:ext cx="7896240" cy="4736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1789920" y="5517360"/>
            <a:ext cx="53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функції туроператора та тураг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0" y="2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ецифікою функціонування на ринку туристичних послуг вирізняють чотири основних типи туроператорі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9853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масового ринк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йбільш відомий тип операторів. Сутність діяльності для даного типу полягає у формуванні, купівлі і продажу турпакетів у добре відомі туристичні центри й курорти, перевезення клієнтів до яких здійснюється приватними авіакомпаніями або чартерними рей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2214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и, які спеціалізуються на певному сегменті (напрямі) туристичного ринку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йбільш поширений тип туроператорів, який поділяється на декілька категорі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роператори, які пропонують пакети для певної категорії споживачів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роператори, які пропонують пакети на певні напрямки-дестинації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роператори, які пропонують пакет турпослуг у певних туристичних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роператори, які пропонують турпродукт, пов'язаний з перевезеннями клієнтури на певному виді транспорту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роператори, які пропонують специфічні ту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4654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и внутрішнього ринку (domestic)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і продають турпакети в межах країни проживання, тобто турпродукт реалізується на національному рів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7"/>
          <p:cNvSpPr/>
          <p:nvPr/>
        </p:nvSpPr>
        <p:spPr>
          <a:xfrm>
            <a:off x="0" y="566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и зовнішнього ринку (international)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ворюють пакети і продають їх у різні країни. Найчастіше їх діяльність пов'язана з тими країнами, з яких приїздить більшість турист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478080" y="549720"/>
            <a:ext cx="82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уроператор та турагент, їх суть та основні відмін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179280" y="192780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стичний продук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є собою комплекс послуг і товарів, матеріальних і нематеріальних благ та ресурсів, призначених для туристичного споживання, що реалізуються на ринку туристичних послуг. Він є здебільшого вузькоспеціалізованим, має складну, динамічну структуру, пристосовану до зміни попиту, і здатен забезпечити задоволення різноманітних потреб людини, що подорожу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1665360" y="74880"/>
            <a:ext cx="58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б'єкти ринкової діяльності на ринку виробника турпродук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333360"/>
          <a:ext cx="8964720" cy="6588000"/>
        </p:xfrm>
        <a:graphic>
          <a:graphicData uri="http://schemas.openxmlformats.org/drawingml/2006/table">
            <a:tbl>
              <a:tblPr/>
              <a:tblGrid>
                <a:gridCol w="1368360"/>
                <a:gridCol w="2217960"/>
                <a:gridCol w="1792080"/>
                <a:gridCol w="2117880"/>
                <a:gridCol w="1468440"/>
              </a:tblGrid>
              <a:tr h="36540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інь інтегрова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центи основних видів послуг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ки комплексного проду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щенн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 харч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віл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636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посередньо задіяні в туризм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ельні та ресторанні мережі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емі готелі та підприємства харчування; Котеджі та апартаменти; інші засоби розміщ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і підприємства 3 усіх видів пасажирських перевезень, що здійснюють регулярні та чартерні рей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 з організації екскурсій;видовищ; спортивних міроприємств; шоу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ади культури; парки; спеціалізовані вид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оператори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684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середковано задіяні в туризм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ві підприємс­тва соціальної інфраструктури; Агентства з продажу нерухомості; Виробники продуктів харчування; виробники обладнання для готелів і ресторанів; земельні власники; будівельні компан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­ства транспортної інфраструктури (вокзали, аеропорти); виробники транспортих засобів; виробники пального та маст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ки спортивно­го обладнання та спорт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ів; виробники аудіо-, відеотехніки та продукції; засоби масової інфор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рми-консультанти з дизайну, реклами, маркетин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0" y="83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и 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потужні туристичні фірми, що спеціалізуються на розробці комплексного турпродукту і його оптовій реалізації. Діяльність туроператорів полягає у складанні з окремих туристичних послуг комплексних турів, що пропонуються споживачеві за фіксованою цін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0" y="2207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характером діяльності, територіальним рівнем і формою організації туроператори поділяються на ініціативних і рецептив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0" y="3068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іціативні туроператори -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 ті, що спеціалізуються на міжнародному туризмі, орієнтовані переважно на зарубіжний туризм і здійснюють свою діяльність на основі прямих угод з продуцентами послуг (готелі, транспортні компанії тощо) або з рецептивними туроперато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4697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ивні туроператор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іалізуються на іноземному туризмі, комплектуючи тури і програми обслуговування п місцях прийому туристів на основі прямих угод з продуцентами послуг (готелі, підприємства харчування, дозвіллєві заклади тощ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lubiceva_mrt1.jpg"/>
          <p:cNvPicPr/>
          <p:nvPr/>
        </p:nvPicPr>
        <p:blipFill>
          <a:blip r:embed="rId1"/>
          <a:stretch/>
        </p:blipFill>
        <p:spPr>
          <a:xfrm>
            <a:off x="1187280" y="1125360"/>
            <a:ext cx="7169400" cy="46072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3132000" y="587700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туроперейтин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" descr="lubiceva_mrt2.jpg"/>
          <p:cNvPicPr/>
          <p:nvPr/>
        </p:nvPicPr>
        <p:blipFill>
          <a:blip r:embed="rId1"/>
          <a:stretch/>
        </p:blipFill>
        <p:spPr>
          <a:xfrm>
            <a:off x="1258920" y="692280"/>
            <a:ext cx="6408720" cy="477972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4"/>
          <p:cNvSpPr/>
          <p:nvPr/>
        </p:nvSpPr>
        <p:spPr>
          <a:xfrm>
            <a:off x="1042920" y="58053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.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ікація туроператорів за рівнем спеціалізації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49200" y="333720"/>
            <a:ext cx="66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ї туроператора та їх характери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1125360"/>
            <a:ext cx="87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овими суб'єктами туристичної діяльності, які взаємодіють у процесі розробки та реалізації турпродукту, надання й споживання туристичних послуг, є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к (організатор) і гуртовий продавець туру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ці туристичних послуг (контрагенти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ідприємства і компанії, які надають окремі послуги з розміщення, харчування, транспортні, екскурсійні, страхові, послуги, які пов'язані з оформленням закордонних паспортів і віз, бронюванням і купівлею квитків. Вони виступають як національні або іноземні контрагенти, які постачають туроператорам послуги, що входять у т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рібний продавець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аг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ст (споживач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удь-яка фізична особа, яка використовує, купує або має намір придбати туристичні послуги (турпродукт) для особистих потре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0" y="1076040"/>
            <a:ext cx="9144000" cy="478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 -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подарюючий суб'єкт або індивідуальний підприємець, який розробляє туристичні маршрути, забезпечує їх функціонування, організовує рекламу, встановлює ціни на тури турагентам для випуску за ними путівок і їх реаліз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туроператорською діяльністю розуміють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іяльність щодо формування, просування і реалізації туристичного продукту, яка здійснюється на підставі ліцензії юридичною особою або індивідуальним підприєм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287280" y="71172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чо-обслуговуюча діяльність туроператорів передбачає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19332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вання (комплектацію) турі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ування турі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ртову реалізацію турі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ення обслуговування туристів у межах програми тур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і оперативний супровід турі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ість за виконання робі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0T17:20:32Z</dcterms:created>
  <dc:creator>Маша</dc:creator>
  <dc:description/>
  <dc:language>en-US</dc:language>
  <cp:lastModifiedBy>USER</cp:lastModifiedBy>
  <dcterms:modified xsi:type="dcterms:W3CDTF">2020-10-19T15:43:44Z</dcterms:modified>
  <cp:revision>22</cp:revision>
  <dc:subject/>
  <dc:title>Слайд 1</dc:title>
</cp:coreProperties>
</file>