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AA6-8C2D-4A2B-B2D8-3BBB58C6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871-6B73-46C5-BF98-EEF4A1E9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B1D-BC9D-4963-9C90-5031924C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517-96CA-43BD-A9A6-0884A15A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485-96CC-4A7D-84B3-DF5FE74F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79F-3052-4386-803B-71E86E49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3D2-18AB-401F-AA5D-225C476E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DE8-403D-4834-A44A-74BA5553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9E5-A77D-4CA9-BB56-0B651E81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E5D-C54B-43AB-8BD8-E18D1EB7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F41-71AF-4DD4-ACA0-F0EA69B7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E3D-9FF2-4B57-A6E9-2FD1D178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BB80-BE49-4649-ABCB-DA7978C2E4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41300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Загальна характеристика бухгалтерського прикладного забезпеч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6093000"/>
            <a:ext cx="64008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</a:rPr>
              <a:t>асистент Бахарєва Я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867564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Програма 1С:Підприємство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Широкого поширення програма 1С:Підприємство в Україні набула починаючи з версії “1С:Підприємство 7.7”. Прихильність до неї з боку споживачів  призвела до того, що незважаючи на появу конфігурацій під “1С:Підприємство 8 для України” ще в 2008 році, в 2018 році її все ще використовують близько 10% українських компаній від загального ринку програм 1С в Україні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точна версія програми 1С:Підприємство 8.3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при її створенні особливу увагу розробниками було приділено технологіям для експлуатації програми засобами мережі Інтернет і тепер крім роботи в режимі розподіленої інформаційної бази (РІБ) у версії 8.3 з'явилася можливість повноцінної роботи програм 1С в режимі 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Bookman Old Style"/>
                <a:hlinkClick r:id="rId2" action="ppaction://hlinksldjump"/>
              </a:rPr>
              <a:t>Тонкого клієнта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і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Bookman Old Style"/>
                <a:hlinkClick r:id="rId3" action="ppaction://hlinksldjump"/>
              </a:rPr>
              <a:t>"Web-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Bookman Old Style"/>
                <a:hlinkClick r:id="rId4" action="ppaction://hlinksldjump"/>
              </a:rPr>
              <a:t>клієнт"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1С:Підприємство має клієнт-серверну архітектуру, т.б. система складається з двох частин – клієнта і сервер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Клієнт – це сукупна назва користувацького додатка, а сервер – службова частина, що є прихованою від користувач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i="1" lang="uk-UA" sz="1600" spc="-1" strike="noStrike">
                <a:solidFill>
                  <a:srgbClr val="000000"/>
                </a:solidFill>
                <a:latin typeface="Bookman Old Style"/>
              </a:rPr>
              <a:t>Товстий клієнт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” – “звичайний” для 1С 8 вид клієнтського додатка, особливістю якого є те, що більшу частину інформації система обробляє на комп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ютері користувача і більша частина цієї інформації зберігається на комп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ютері коритсувача у вигляді тимчасових файлів. Цей режим є вибагливим до каналу передачі даних та був єдиним варіантом запуску системи !С до появи платформи 1С 8.2. Для запуску товстого клієнта використовується файл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1cv8.exe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 Роботи по розробці прикладного рішення (Конфігуратор) можна здійснювати лише в режимі товстого клієн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i="1" lang="uk-UA" sz="1600" spc="-1" strike="noStrike">
                <a:solidFill>
                  <a:srgbClr val="000000"/>
                </a:solidFill>
                <a:latin typeface="Bookman Old Style"/>
              </a:rPr>
              <a:t>Тонкий клієнт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” – режим, що з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явився з виходом платформи 8.2 та 8.3. Робота в режимі “тонкого клієнта” може здійснюватись тільки в режимі керованого додат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В режимі “тонкого клієнта” всі дії виконуються на сервері а користувачеві виводитьві лише відображення отриманої після обробки інформації. Цей режим не потребує великих ресурсів системи та каналів зв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язку. Для запуску тонкого клієнта використовується файл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1cv8</a:t>
            </a:r>
            <a:r>
              <a:rPr b="1" i="1" lang="uk-UA" sz="16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.exe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Web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-кл</a:t>
            </a:r>
            <a:r>
              <a:rPr b="1" i="1" lang="uk-UA" sz="1600" spc="-1" strike="noStrike">
                <a:solidFill>
                  <a:srgbClr val="000000"/>
                </a:solidFill>
                <a:latin typeface="Bookman Old Style"/>
              </a:rPr>
              <a:t>ієнт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” – режим, що забезпечує користувачеві 1С  зручну віддалену роботу з інформаційними базами 1С через Інтернет. При застосуванні даного режиму користувач підключається до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web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-сервера, який налаштовано спеціальним способом , цей сервер здійснює взаємодію клієнтів з інформаційною БД або з кластером. Така технологія добре підійде для автоматизації на базі 1С інтернет-магазині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рикладні рішення 1С не потребують доопрацювань для того, щоб з ними працювати через мережу Інтернет – вони забезпечують самостійне функціонування системи 1С на комп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ютері користувача, а підключення клієнтських додатків 1С через інтернет може здійснюватись за допомогою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http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-протоколу, або по протоколу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https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, який підтримує шифрування інформації, яка передаєть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Web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клієнт системи 1С через Інтернет функціонує під керуванням браузера інтернета і тому такий клієнт може додатково працювати на комп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ютері з операційною системою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Mac OS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на планшетах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Pad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 з встановленою системою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Apple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( в браузері 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Safari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Програма 1С:Підприємство 8 може працювати як у файловому режимі бази даних так і Клієнт-серверному варіанті, для компаній які використовують 10 і більше користувачів краще використовувати Клієнт-серверний варіант програми. Для організації роботи програми в Клієнт-серверному варіанті крім ліцензій на Основну програму і додаткові робочі місця необхідно придбати ліцензію на Сервер 1С:Підприємство 8 і вибрати один з декількох варіантів платних або безкоштовних SQL серверів, платні: Microsoft SQL Server, Oracle Database, безкоштовні PostgreSQL, IBM DB2. Робота в Клієнт-серверному варіанті забезпечує більш швидкий доступ до даних і кращий захист інформації в порівнянні з файловим варіан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истема 1С:Підприємство 8 підтримує роботу з широким спектром торгового обладнання: фіскальні реєстратори, ваги, ПОСТ термінали, сканери штрих-кодів, датчики обліку відвідувач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528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Програма 1С:Підприємство 8 складається з двох компонентів: 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технологічної платформи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(виконує загальносистемні функції, є відкритою системою, т.б. можлива підтримка зі сторони незалежних розробників) та 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рикладних  рішень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(розробляються на вбудованій високорівневій мові програмування  і використовуються в середовищі 1С:Підприємство для автоматизації різних ланок діяльності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Технологічна платформа включає три функціональні компонен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“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Бухгалтерський облік”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(призначена для автоматизації бухгалтерського обліку на основі бухгалтерських операцій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“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Оперативний облік”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(призначена для автоматизації оперативного обліку різних засобів в різних розріза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“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Розрахунок”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(призначена для автоматизації складних розрахунків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5472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Загальна архітектура 1С:Підприєм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916280"/>
            <a:ext cx="7786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611280" y="198900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Інтернаціоналіз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3"/>
          <p:cNvSpPr/>
          <p:nvPr/>
        </p:nvSpPr>
        <p:spPr>
          <a:xfrm>
            <a:off x="611280" y="292428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Обмін дан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4"/>
          <p:cNvSpPr/>
          <p:nvPr/>
        </p:nvSpPr>
        <p:spPr>
          <a:xfrm>
            <a:off x="3203640" y="198900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Економічна та аналітична звітні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5"/>
          <p:cNvSpPr/>
          <p:nvPr/>
        </p:nvSpPr>
        <p:spPr>
          <a:xfrm>
            <a:off x="3203640" y="292428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Web-</a:t>
            </a: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розшир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6"/>
          <p:cNvSpPr/>
          <p:nvPr/>
        </p:nvSpPr>
        <p:spPr>
          <a:xfrm>
            <a:off x="5796000" y="227664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Робота користува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7"/>
          <p:cNvSpPr/>
          <p:nvPr/>
        </p:nvSpPr>
        <p:spPr>
          <a:xfrm>
            <a:off x="5796000" y="328464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Розширення для мобільних пристрої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8"/>
          <p:cNvSpPr/>
          <p:nvPr/>
        </p:nvSpPr>
        <p:spPr>
          <a:xfrm>
            <a:off x="5796000" y="436572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Засоби адміністр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9"/>
          <p:cNvSpPr/>
          <p:nvPr/>
        </p:nvSpPr>
        <p:spPr>
          <a:xfrm>
            <a:off x="611280" y="386064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Інтерфейсні механіз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20"/>
          <p:cNvSpPr/>
          <p:nvPr/>
        </p:nvSpPr>
        <p:spPr>
          <a:xfrm>
            <a:off x="3203640" y="386064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Система прав досту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21"/>
          <p:cNvSpPr/>
          <p:nvPr/>
        </p:nvSpPr>
        <p:spPr>
          <a:xfrm>
            <a:off x="611280" y="479736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Прикладні механіз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22"/>
          <p:cNvSpPr/>
          <p:nvPr/>
        </p:nvSpPr>
        <p:spPr>
          <a:xfrm>
            <a:off x="3203640" y="479736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Інтегр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23"/>
          <p:cNvSpPr/>
          <p:nvPr/>
        </p:nvSpPr>
        <p:spPr>
          <a:xfrm>
            <a:off x="5796000" y="544500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Засоби розро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24"/>
          <p:cNvSpPr/>
          <p:nvPr/>
        </p:nvSpPr>
        <p:spPr>
          <a:xfrm>
            <a:off x="611280" y="573264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Загальні механіз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25"/>
          <p:cNvSpPr/>
          <p:nvPr/>
        </p:nvSpPr>
        <p:spPr>
          <a:xfrm>
            <a:off x="3203640" y="573264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Масштабовані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</a:rPr>
              <a:t>Конфігурація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програмного продукту 1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</a:rPr>
              <a:t>складається з об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</a:rPr>
              <a:t>єктів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(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ів метаданих), кожен з яких має своє призначенн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Структура прикладного рішення (конфігурації) 1С – визначається складом 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ів конфігурації та взаємозв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язками між н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и конфігурації 1С:Підприємство – це засоби,які призначені для відображення реальних 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ів та явищ предметної обла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В самому загальному вигляді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взаємозв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’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язок об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’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єктів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 можна розлядати наступним чин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Загнутый угол 3"/>
          <p:cNvSpPr/>
          <p:nvPr/>
        </p:nvSpPr>
        <p:spPr>
          <a:xfrm>
            <a:off x="1258920" y="1341360"/>
            <a:ext cx="2305080" cy="2735280"/>
          </a:xfrm>
          <a:prstGeom prst="foldedCorner">
            <a:avLst>
              <a:gd name="adj" fmla="val 16666"/>
            </a:avLst>
          </a:prstGeom>
          <a:solidFill>
            <a:srgbClr val="a7f8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Умовно-постійна інформаці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Конста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від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ерераху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лани видів характер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лани рахун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лани видів розрахун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Загнутый угол 4"/>
          <p:cNvSpPr/>
          <p:nvPr/>
        </p:nvSpPr>
        <p:spPr>
          <a:xfrm>
            <a:off x="5580000" y="4653000"/>
            <a:ext cx="2305080" cy="1944720"/>
          </a:xfrm>
          <a:prstGeom prst="foldedCorner">
            <a:avLst>
              <a:gd name="adj" fmla="val 16666"/>
            </a:avLst>
          </a:prstGeom>
          <a:solidFill>
            <a:srgbClr val="a7f8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Регістр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егістри відом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егістри накопи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егістри бухгалтер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егістри розраху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нутый угол 5"/>
          <p:cNvSpPr/>
          <p:nvPr/>
        </p:nvSpPr>
        <p:spPr>
          <a:xfrm>
            <a:off x="1187280" y="5084640"/>
            <a:ext cx="2305080" cy="1513080"/>
          </a:xfrm>
          <a:prstGeom prst="foldedCorner">
            <a:avLst>
              <a:gd name="adj" fmla="val 16666"/>
            </a:avLst>
          </a:prstGeom>
          <a:solidFill>
            <a:srgbClr val="a7f8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Обробка і виведення інформації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Оброб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Зві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нутый угол 6"/>
          <p:cNvSpPr/>
          <p:nvPr/>
        </p:nvSpPr>
        <p:spPr>
          <a:xfrm>
            <a:off x="5580000" y="1700280"/>
            <a:ext cx="2305080" cy="1944720"/>
          </a:xfrm>
          <a:prstGeom prst="foldedCorner">
            <a:avLst>
              <a:gd name="adj" fmla="val 16666"/>
            </a:avLst>
          </a:prstGeom>
          <a:solidFill>
            <a:srgbClr val="a7f8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Докумен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к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Журнали документ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Нумера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ослідов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право 7"/>
          <p:cNvSpPr/>
          <p:nvPr/>
        </p:nvSpPr>
        <p:spPr>
          <a:xfrm>
            <a:off x="3564000" y="2349360"/>
            <a:ext cx="1944720" cy="574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стрелка влево/вправо 8"/>
          <p:cNvSpPr/>
          <p:nvPr/>
        </p:nvSpPr>
        <p:spPr>
          <a:xfrm>
            <a:off x="3492360" y="5516640"/>
            <a:ext cx="1943280" cy="5763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лево/вправо 9"/>
          <p:cNvSpPr/>
          <p:nvPr/>
        </p:nvSpPr>
        <p:spPr>
          <a:xfrm rot="16200000">
            <a:off x="1907280" y="4293360"/>
            <a:ext cx="936720" cy="503280"/>
          </a:xfrm>
          <a:prstGeom prst="leftRigh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право 10"/>
          <p:cNvSpPr/>
          <p:nvPr/>
        </p:nvSpPr>
        <p:spPr>
          <a:xfrm rot="2206800">
            <a:off x="3352320" y="3947760"/>
            <a:ext cx="2405160" cy="576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право 11"/>
          <p:cNvSpPr/>
          <p:nvPr/>
        </p:nvSpPr>
        <p:spPr>
          <a:xfrm rot="5400000">
            <a:off x="6263280" y="3825000"/>
            <a:ext cx="936360" cy="5763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Всі 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и 1С можна поділити на груп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и 1С для облі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и 1С для користувач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и 1С для програміс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и 1С для роботи з іншими 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ерелік основних 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ів конфігурації можна побачити як в режимі “Конфігуратор”, так і в користувацькому режимі (якщо зайти від імені адміністрато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Перегляд основних об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єктів конфігурації в 1С:Підприємство 8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rcRect l="0" t="0" r="45529" b="26594"/>
          <a:stretch/>
        </p:blipFill>
        <p:spPr>
          <a:xfrm>
            <a:off x="547560" y="2133720"/>
            <a:ext cx="604044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рикладне програмне забезпечення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 – це сукупність програм, які призначені для реалізації конкретних задач опрацювання даних, які користувач розв’язує в ході своєї діяльност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8"/>
          <p:cNvGrpSpPr/>
          <p:nvPr/>
        </p:nvGrpSpPr>
        <p:grpSpPr>
          <a:xfrm>
            <a:off x="2050920" y="1916280"/>
            <a:ext cx="5222880" cy="3647880"/>
            <a:chOff x="2050920" y="1916280"/>
            <a:chExt cx="5222880" cy="3647880"/>
          </a:xfrm>
        </p:grpSpPr>
        <p:sp>
          <p:nvSpPr>
            <p:cNvPr id="46" name="AutoShape 9"/>
            <p:cNvSpPr/>
            <p:nvPr/>
          </p:nvSpPr>
          <p:spPr>
            <a:xfrm>
              <a:off x="2868840" y="1916280"/>
              <a:ext cx="3077640" cy="302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tantia"/>
                </a:rPr>
                <a:t>Прикладне програмне забезпече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0"/>
            <p:cNvSpPr/>
            <p:nvPr/>
          </p:nvSpPr>
          <p:spPr>
            <a:xfrm>
              <a:off x="2132280" y="2462040"/>
              <a:ext cx="1995120" cy="609480"/>
            </a:xfrm>
            <a:prstGeom prst="downArrowCallout">
              <a:avLst>
                <a:gd name="adj1" fmla="val 81875"/>
                <a:gd name="adj2" fmla="val 81867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Bookman Old Style"/>
                </a:rPr>
                <a:t>Прикладне ПЗ загального призначе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1"/>
            <p:cNvSpPr/>
            <p:nvPr/>
          </p:nvSpPr>
          <p:spPr>
            <a:xfrm>
              <a:off x="5045040" y="2462040"/>
              <a:ext cx="2155680" cy="655200"/>
            </a:xfrm>
            <a:prstGeom prst="downArrowCallout">
              <a:avLst>
                <a:gd name="adj1" fmla="val 82260"/>
                <a:gd name="adj2" fmla="val 82253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Bookman Old Style"/>
                </a:rPr>
                <a:t>Прикладне ПЗ спеціального призначе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2"/>
            <p:cNvSpPr/>
            <p:nvPr/>
          </p:nvSpPr>
          <p:spPr>
            <a:xfrm>
              <a:off x="4611240" y="3186720"/>
              <a:ext cx="2662560" cy="23774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Системи автоматизованого проектуванн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Настільні видавничі систем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Bookman Old Style"/>
                </a:rPr>
                <a:t>Бухгалтерські систем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Фінансові аналітичні систем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Редактори HTML (Web-редактори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Системи автоматизованого переклад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Інтегровані системи діловодств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Експертні систем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Системи відеомонтаж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3"/>
            <p:cNvSpPr/>
            <p:nvPr/>
          </p:nvSpPr>
          <p:spPr>
            <a:xfrm>
              <a:off x="2050920" y="3186720"/>
              <a:ext cx="1825560" cy="23774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Текстові редактор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Текстові процесор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Електронні таблиц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Графічні редактор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Системи управління базами дани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сновн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і об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єкти конфігурації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для обліку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 в 1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Ці об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єкти конфігурації є засобами ведення обліку. До них віднося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Документи 1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Довідники 1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Регістри 1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сновн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і об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єкти конфігурації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для користувача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 в 1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Ці об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єкти конфігурації не дають можливості вести облік, але необхідні користувачеві для зручної роботи з програмою. До них віднося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Журнали документів 1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Звіти 1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58016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Поняття системи “1С:Підприємство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 </a:t>
            </a:r>
            <a:r>
              <a:rPr b="1" i="1" lang="uk-UA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основних поня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належа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Констан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ереліченн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відни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кумен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Журнали документі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Зві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Оброб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 </a:t>
            </a:r>
            <a:r>
              <a:rPr b="1" i="1" lang="uk-UA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додаткових поня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належа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лани рахунків, видів характеристик, видів розрахунк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Операції і провод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Журнали операцій і проводок (регістри бухгалтерії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Типові операції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Коректні провод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Субконт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егістри (відомостей, розрахунку, накопиченн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Основне призначення програми 1С:Підприємство 8 -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ведення</a:t>
            </a: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 бухгалтерського та податкового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обліку</a:t>
            </a: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 та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підготовка</a:t>
            </a: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 відповідної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звітності</a:t>
            </a: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Основним способом ведення обліку в «1С:Підприємство 8» є 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реєстрація фактів господарської діяльності </a:t>
            </a: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підприємства за допомогою документі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Альтернативним способом ведення обліку є реєстрація господарських фактів з використанням введення операцій вручну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Класифікація звітів в системі “1С:Підприємство 8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2997360"/>
            <a:ext cx="83516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Bookman Old Style"/>
              </a:rPr>
              <a:t>Звіти системи “1С:Підприємство” поділяють н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стандартні</a:t>
            </a:r>
            <a:r>
              <a:rPr b="0" lang="uk-UA" sz="2600" spc="-1" strike="noStrike">
                <a:solidFill>
                  <a:srgbClr val="000000"/>
                </a:solidFill>
                <a:latin typeface="Bookman Old Style"/>
              </a:rPr>
              <a:t> (використовують для будь-яких розділів бухгалтерського обліку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спеціалізовані</a:t>
            </a:r>
            <a:r>
              <a:rPr b="0" lang="uk-UA" sz="2600" spc="-1" strike="noStrike">
                <a:solidFill>
                  <a:srgbClr val="000000"/>
                </a:solidFill>
                <a:latin typeface="Bookman Old Style"/>
              </a:rPr>
              <a:t> (орієнтовані на конкретні розділи бухгалтерського обліку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регламентовані</a:t>
            </a:r>
            <a:r>
              <a:rPr b="0" lang="uk-UA" sz="2600" spc="-1" strike="noStrike">
                <a:solidFill>
                  <a:srgbClr val="000000"/>
                </a:solidFill>
                <a:latin typeface="Bookman Old Style"/>
              </a:rPr>
              <a:t> (призначені для формування звітної інформації для різних державних  органів та цільових фондів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Бухгалтерська звітність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– необхідна для користувачів такої звітності при прийнятті ними економічних рішень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інформація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про фінансовий стан суб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єкта господарювання на певну дату, фінансові результати його діяльності та рух грошових коштів за звітний період, систематизована у відповідності до вимог Закону України “ Про бухгалтерський облік та фінансову звітність в Україні 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Bookman Old Style"/>
              </a:rPr>
              <a:t>Бухгалтерська звітність </a:t>
            </a:r>
            <a:r>
              <a:rPr b="0" lang="uk-UA" sz="2200" spc="-1" strike="noStrike">
                <a:solidFill>
                  <a:srgbClr val="000000"/>
                </a:solidFill>
                <a:latin typeface="Bookman Old Style"/>
              </a:rPr>
              <a:t>включає:</a:t>
            </a:r>
            <a:br>
              <a:rPr sz="2200"/>
            </a:b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Bookman Old Style"/>
              </a:rPr>
              <a:t> фінансову звітність;</a:t>
            </a:r>
            <a:br>
              <a:rPr sz="2200"/>
            </a:b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Bookman Old Style"/>
              </a:rPr>
              <a:t> податкову звітність;</a:t>
            </a:r>
            <a:br>
              <a:rPr sz="2200"/>
            </a:b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Bookman Old Style"/>
              </a:rPr>
              <a:t> статистичну звітність;</a:t>
            </a:r>
            <a:br>
              <a:rPr sz="2200"/>
            </a:b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Bookman Old Style"/>
              </a:rPr>
              <a:t> управлінську звітність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55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Регламентована звітність в “1С:Підприємство 8.0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565360"/>
            <a:ext cx="842472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Організація зобов'язана періодично формувати регламентовану звітність - комплекти звітів, порядок заповнення яких встановлюється нормативними документами. У програмі містяться такі форми звітності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бухгалтерська звітність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податкові декларації та розрахунк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звіти в соціальні позабюджетні фонд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статистична звітність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довідки , які подаються до податкових органі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декларації про виробництво та обіг алкогольної продукції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Реалізовано численні сервіси для зручності роботи з регламентованими звітами: календар бухгалтера , можливість налаштування списку звітів , перевірка правильності заповнення звітів та розшифровка показників звітів та ін.. Форми регламентованої звітності періодично змінюються рішеннями державних органі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3960720" cy="13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Список регламентованих звітів в “1С:Підприємство 8.0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rcRect l="37751" t="9341" r="17625" b="3509"/>
          <a:stretch/>
        </p:blipFill>
        <p:spPr>
          <a:xfrm>
            <a:off x="4284720" y="2060640"/>
            <a:ext cx="4032360" cy="4427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4259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Вікно вибору регламентованих звітів в “1С:Підприємство 8.0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rcRect l="0" t="12421" r="29724" b="22613"/>
          <a:stretch/>
        </p:blipFill>
        <p:spPr>
          <a:xfrm>
            <a:off x="468360" y="2060640"/>
            <a:ext cx="831204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Категорії користувачів</a:t>
            </a:r>
            <a:r>
              <a:rPr b="0" i="1" lang="uk-UA" sz="2800" spc="-1" strike="noStrike">
                <a:solidFill>
                  <a:srgbClr val="000000"/>
                </a:solidFill>
                <a:latin typeface="Bookman Old Style"/>
              </a:rPr>
              <a:t>, що формують основні вимоги до бухгалтерських програмних продукт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бухгалтери</a:t>
            </a:r>
            <a:r>
              <a:rPr b="0" i="1" lang="uk-UA" sz="2600" spc="-1" strike="noStrike">
                <a:solidFill>
                  <a:srgbClr val="000000"/>
                </a:solidFill>
                <a:latin typeface="Bookman Old Style"/>
              </a:rPr>
              <a:t> — безпосередні користувачі комп'ютерної системи бухгалтерського обліку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програмісти і техніки </a:t>
            </a:r>
            <a:r>
              <a:rPr b="0" i="1" lang="uk-UA" sz="2600" spc="-1" strike="noStrike">
                <a:solidFill>
                  <a:srgbClr val="000000"/>
                </a:solidFill>
                <a:latin typeface="Bookman Old Style"/>
              </a:rPr>
              <a:t>— спеціалісти з інформаційних систе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управлінці</a:t>
            </a:r>
            <a:r>
              <a:rPr b="0" i="1" lang="uk-UA" sz="2600" spc="-1" strike="noStrike">
                <a:solidFill>
                  <a:srgbClr val="000000"/>
                </a:solidFill>
                <a:latin typeface="Bookman Old Style"/>
              </a:rPr>
              <a:t> — керівництво підприємств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684720" y="1484280"/>
            <a:ext cx="7869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Стандартні звіти в системі “1С:Підприємство 8.0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0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До складу «1С:Бухгалтерії 8 для України» входять стандартні звіти, призначені для отримання даних по залишках і оборотах рахунків, субконто і проводках в різних розрізах для бухгалтерського і податкового обліку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Стандартні звіти розраховані переважно на внутрішнє використання на підприємствах, що ведуть бухгалтерський і податковий облік за допомогою «1С:Бухгалтерії 8 для України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Для кожного виду обліку (бухгалтерського або податкового) передбачені власні набори стандартних звітів. Початкова інформація для формування звітів вибирається з відповідних журналів проводок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Для бухгалтерського обліку в «1С:Бухгалтерії 8 для України» передбачений наступний набір стандартних звітів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Оборотно-сальдовавідомість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Шахова відомість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Оборотно-сальдовавідомість по рахунку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Обороти рахунку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Аналіз рахунку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Картка рахунку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Аналіз субконто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Обороти між субконто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Картка субконто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Зведені проводки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Звіт по проводках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Діаграма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Перераховані звіти доступні через меню «Звіти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Вимоги до бухгалтерського програмного забезпечення </a:t>
            </a:r>
            <a:br>
              <a:rPr sz="2400"/>
            </a:b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(для проведення порівняння комп’ютерних програ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функціональні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технічні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комерційні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ергономічн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61272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Функціональні вимог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Ведення журналу операц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ій (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здатність вводити та накопичувати всі господарські операції, що відображають господарську діяльність підприємства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Ажур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 (м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ожливість розраховувати підсумки за рахунками бухгалтерського обліку (обороти, залишки) на будь-який момент часу при довільній кількості введених господарських операцій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Аналітичний облік 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можливість вести аналітичний облік у таких розрізах і з таким рівнем деталізації, як цього вимагають потреби управління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Кількісний облік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можливість ведення обліку в натуральному вимірнику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Валютний облік 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облік у валютах, що відрізняються від базової (основної) валюти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Гнучкість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 (м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ожливість пристосувати програму до особливостей конкретного підприємства та змін у законодавстві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61272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Технічні вимог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Невибагливість до апаратного забезпечення 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(можливість ефективно працювати на комп'ютерах із середніми технічними характеристиками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Редактор документів 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(вбудовані в програму засоби створення і коригування форм первинних документів, розрахунків та звітів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Експорт-імпорт даних 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(можливість обмінюватися даними з іншими програмами та пристроями (касовими апаратами, технологічними датчиками, сканерами штрих-кодів)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Робота в мережах 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(здатність працювати на кількох комп'ютерах із поєднанням даних за допомогою комп'ютерної мережі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Захист інформації 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(забезпечення кодування інформації та обмеження доступу за допомогою системних паролів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Архів документів 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Вбудовані засоби архівації даних з можливістю швидкого відновлення інформації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6127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Комерційні вимог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2707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Ціна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 (прийнятна для підприємства ціна програмного забезпечення та його супроводу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Супровід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 (послуги з навчання користувачів, оперативні консультації, оновлення програмного забезпеченн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Документація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 (якісна детальна друкована документація до програ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6127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Ергономічні вимог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1280" y="270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Інтерфейс користувача  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(Зручні та нешкідливі для здоров'я користувача засоби забезпечення діалогу "людина — комп'ютер«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рограмна допомога 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(Розвинена система програмної допомоги, що дозволяє отримати "підказку" щодо будь-якої функції або дії в програмі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Основні функціональні вимоги</a:t>
            </a:r>
            <a:r>
              <a:rPr b="0" lang="uk-UA" sz="26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uk-UA" sz="2600" spc="-1" strike="noStrike">
                <a:solidFill>
                  <a:srgbClr val="000000"/>
                </a:solidFill>
                <a:latin typeface="Bookman Old Style"/>
              </a:rPr>
              <a:t>що висуваються до бухгалтерського програмного забезпеченн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Bookman Old Style"/>
              </a:rPr>
              <a:t>здатність вводити та накопичувати всі операції, що відображають господарську діяльність підприємств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Bookman Old Style"/>
              </a:rPr>
              <a:t>можливість розраховувати підсумки за рахунками бухгалтерського обліку (обороти, залишки) на будь-який момент часу при будь-якій кількості введених господарських операцій;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Bookman Old Style"/>
              </a:rPr>
              <a:t>обробка кореспонденцій господарських операцій із зазначенням конкретних аналітичних об'єктів та формуванням звітів у розрізі аналітики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Bookman Old Style"/>
              </a:rPr>
              <a:t>кількісний облік товарно-матеріальних цінностей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Bookman Old Style"/>
              </a:rPr>
              <a:t>облік у розрізі кількох валют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Bookman Old Style"/>
              </a:rPr>
              <a:t>можливість швидко і без втрат інформації налагодити план рахунків, звітні форми, шаблони проводок, звітність довільної форми як відповідно до специфіки конкретного підприємства (незалежно від форми власності та виду діяльності), так і згідно з можливими змінами в законодавстві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3T05:46:51Z</dcterms:created>
  <dc:creator>komp</dc:creator>
  <dc:description/>
  <dc:language>en-US</dc:language>
  <cp:lastModifiedBy>komp</cp:lastModifiedBy>
  <dcterms:modified xsi:type="dcterms:W3CDTF">2018-04-17T19:34:03Z</dcterms:modified>
  <cp:revision>86</cp:revision>
  <dc:subject/>
  <dc:title>Загальна характеристика бухгалтерського прикладного забезпечення</dc:title>
</cp:coreProperties>
</file>