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23E-C81F-491D-8D84-EE561FA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210-9BB6-4AA6-B31A-668E826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A2B-BE64-4872-8B85-AB41A00A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1BB-FF1B-4381-B2BA-427F460C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6C5C-D623-4010-88BA-54DE8810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75CC-B07C-409E-A78F-5CB0DB6F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E79-2836-47EC-9ECC-0010736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CF0D-43CF-4839-B426-C0CD8C4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C134-9462-4CE5-A0D2-72B297C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A8CA-A94C-4AEB-8957-BA2F00B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0626-F886-49DC-8456-C074A4D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CB2-3AB5-4CBE-AD75-110D42D7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F99-7754-43C7-A97A-371C835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E01-2C92-4100-93D3-C1135CB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CDE-53AD-49ED-92A6-D0BF08A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3443-B2AE-4C41-8E2E-F0A3EB8A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E8F-445D-4DB6-BB6E-0DE7B36E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16C-3F32-4787-8112-2216221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1C8-B0D9-4AD3-A61F-7B7CAC0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736-BA49-4F78-AEB4-5C4DA77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7C3-35C8-4E6B-B9B0-EF9684AB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6C7-9E72-4370-B3D2-EB72FE5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2EA-F6E7-4FEB-9750-8BE8DE1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3C2-4D66-4043-ABC9-C1310EC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2DC2-F44B-4C02-893C-33C91CEA32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AAAA-2767-40AD-A95B-97613AC6DC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Ajax як сучасна технологія кліент-серверних веб-сис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2707920"/>
            <a:ext cx="4681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Підготував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тудент групи 41-Е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равчук Володими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708280"/>
            <a:ext cx="360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ий керів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.т.н., доц. кафедри Економічної кібернетики та інформатики  Паламарчук Є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Браузери, які підтримують AJAX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ерсія Microsoft Internet Explorer 5.0 і вище, а також браузери, засновані на ньому (Версії ОС Mac не підтримуютьс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Браузер Opera та програмне забезпечення для пристроїв від Opera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Засновані на Gecko подібно до Mozilla, Mozilla Firefox, SeaMonkey, Camino, Flock, Epiphany, Galeon та версія Netscape 7.1 і ви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Оглядачі з вбудованим KHTML API версії 3.2 і вище, зокрема Konqueror 3.2 і вище, версія Apple Safari 1.2 і ви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ереваги та недолі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ваги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кономія трафі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меншення навантаження на серв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більшення реакції інтерфейс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долік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теграція із стандартними інструментами брауз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инамічно завантажені дані недоступні пошуковим робот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тарі методи ведення статистики сайтів стають не актуальни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6480" y="69192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Verdana"/>
              </a:rPr>
              <a:t>AJAX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ous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Script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d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L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е підхід до побудови призначених для користувача інтерфейсів веб-додатків, за якого веб-сторінка не перезавантажуючись, сама довантажує потрібні користувачу дані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AJAX ― один з компонентів концепції DHTM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001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д</a:t>
            </a: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історі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 AJAX заговорили після появи в лютому 2005-го року статті Джесі Джеймса Гарретт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e James Garrett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) «Новий підхід до веб-додатків». AJAX — не самостійна технологія. Це іде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уть </a:t>
            </a: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ідхо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715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AJAX — це не самостійна технологія, а швидш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цепція використання декількох суміжних технологі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AJAX підхід до розробки призначених для користувач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терфейсів комбінує кілька основних методів і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прийомі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8208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користання DHTML для динамічної зміни змісту сторі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користання XMLHttpRequest для звернення до сервера «на льоту», не перезавантажуючи всю сторінку повніст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альтернативний метод — динамічне підвантаження коду JavaScript в тег &lt;SCRIPT&gt; з використанням DOM, що здійснюється із використанням формату JS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инамічне створення дочірніх фреймі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3500" spc="-1" strike="noStrike">
                <a:solidFill>
                  <a:srgbClr val="000000"/>
                </a:solidFill>
                <a:latin typeface="Verdana"/>
              </a:rPr>
              <a:t>Використання AJAX стало найбільш популярне після того, як компанія Google почала активно використовувати його при створенні своїх сайтів, таких як Gmail, Google Maps і Google Suggest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Google 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50920" y="1052640"/>
            <a:ext cx="8642160" cy="4751280"/>
            <a:chOff x="250920" y="1052640"/>
            <a:chExt cx="8642160" cy="475128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0920" y="1052640"/>
              <a:ext cx="864216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250920" y="1052640"/>
              <a:ext cx="8642160" cy="475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Google Suggest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1844640"/>
            <a:ext cx="8642160" cy="3909960"/>
            <a:chOff x="250920" y="1844640"/>
            <a:chExt cx="8642160" cy="39099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50920" y="1844640"/>
              <a:ext cx="8642160" cy="39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250920" y="1844640"/>
              <a:ext cx="8642160" cy="39099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469800" indent="-46980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чна модель веб-застосува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068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70828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ап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414972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55592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270828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14972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76360" y="4508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0010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Модель AJA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708280"/>
            <a:ext cx="237636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ап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708280"/>
            <a:ext cx="25210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Брауз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360" y="335772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5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924280"/>
            <a:ext cx="201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MLHttpRequ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55:04Z</dcterms:created>
  <dc:creator>Vladimir</dc:creator>
  <dc:description/>
  <dc:language>en-US</dc:language>
  <cp:lastModifiedBy>Vladimir</cp:lastModifiedBy>
  <dcterms:modified xsi:type="dcterms:W3CDTF">2008-03-18T23:02:31Z</dcterms:modified>
  <cp:revision>16</cp:revision>
  <dc:subject/>
  <dc:title>Ajax як сучасна технологія кліент-серверних веб-систем</dc:title>
</cp:coreProperties>
</file>