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C41-BDBD-4DF6-A16E-49B609B1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343-AD70-4FCE-9C89-51C2AF8C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F84-E063-4BEF-8579-E4E3814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0CD-92CE-4CD5-8081-DBEC6B54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6AC8-4D55-409B-8DAA-5C2DAAE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FEBE-A026-4DC2-95F9-1ED4CD7C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2FFE-A5E9-49A0-928C-B03C43C7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C91D-E591-4949-95B9-D68CA8BC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C58-3580-4F82-8AFA-0D384E24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8223-AED9-4C42-BED4-F6893992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204-E6FF-40AC-9C6A-6B66B55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E5-5866-4A26-9F7C-3B0D31B2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4BEE-478B-4EDD-ADB9-5CC446E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9B5-8BE5-4C5F-B07A-F8916BE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F997-2EFF-444B-A9CC-41DAA79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0A4-A29C-444C-A076-973899E2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AE04-F29A-4198-9A84-B2E12D88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8F6-C4CF-4AA3-BC2C-28C5D72B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979-071B-4C64-B985-EA0F082B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C9C-0D2D-4256-ADE0-9CE6105D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286-970D-4A3D-B638-1ACCACD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990-1FF4-4649-AF47-AA33B73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84C-216A-4268-9959-8F2A023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D81-6D94-4FF0-8D73-8BF419F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8968-E92F-4120-B15B-9DA217AB16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7AB9-63F7-46F8-BE60-840EEA4A2C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Ajax як сучасна технологія кліент-серверних веб-сис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2707920"/>
            <a:ext cx="4681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ідготував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удент групи 41-Е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равчук Володими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2708280"/>
            <a:ext cx="360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ковий керівни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.т.н., доц. кафедри Економічної кібернетики та інформатики  Паламарчук Є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Браузери, які підтримують AJAX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ерсія Microsoft Internet Explorer 5.0 і вище, а також браузери, засновані на ньому (Версії ОС Mac не підтримуютьс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Браузер Opera та програмне забезпечення для пристроїв від Opera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Засновані на Gecko подібно до Mozilla, Mozilla Firefox, SeaMonkey, Camino, Flock, Epiphany, Galeon та версія Netscape 7.1 і вищ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Оглядачі з вбудованим KHTML API версії 3.2 і вище, зокрема Konqueror 3.2 і вище, версія Apple Safari 1.2 і вищ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ереваги та недолі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ваги</a:t>
            </a: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кономія трафік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меншення навантаження на серв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більшення реакції інтерфейс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долі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теграція із стандартними інструментами брауз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инамічно завантажені дані недоступні пошуковим робот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тарі методи ведення статистики сайтів стають не актуальни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6480" y="69192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Verdana"/>
              </a:rPr>
              <a:t>AJAX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ous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aScript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d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L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е підхід до побудови призначених для користувача інтерфейсів веб-додатків, за якого веб-сторінка не перезавантажуючись, сама довантажує потрібні користувачу дані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AJAX ― один з компонентів концепції DHTM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001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д</a:t>
            </a: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історі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 AJAX заговорили після появи в лютому 2005-го року статті Джесі Джеймса Гарретт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e James Garrett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) «Новий підхід до веб-додатків». AJAX — не самостійна технологія. Це іде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уть </a:t>
            </a: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ідход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715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AJAX — це не самостійна технологія, а швидш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онцепція використання декількох суміжних технологі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AJAX підхід до розробки призначених для користувач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терфейсів комбінує кілька основних методів і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прийомі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8208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користання DHTML для динамічної зміни змісту сторі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користання XMLHttpRequest для звернення до сервера «на льоту», не перезавантажуючи всю сторінку повніст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альтернативний метод — динамічне підвантаження коду JavaScript в тег &lt;SCRIPT&gt; з використанням DOM, що здійснюється із використанням формату JS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инамічне створення дочірніх фреймі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500" spc="-1" strike="noStrike">
                <a:solidFill>
                  <a:srgbClr val="000000"/>
                </a:solidFill>
                <a:latin typeface="Verdana"/>
              </a:rPr>
              <a:t>Використання AJAX стало найбільш популярне після того, як компанія Google почала активно використовувати його при створенні своїх сайтів, таких як Gmail, Google Maps і Google Suggest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Google 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50920" y="1052640"/>
            <a:ext cx="8642160" cy="4751280"/>
            <a:chOff x="250920" y="1052640"/>
            <a:chExt cx="8642160" cy="475128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0920" y="1052640"/>
              <a:ext cx="864216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250920" y="1052640"/>
              <a:ext cx="8642160" cy="475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13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Google Suggest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1844640"/>
            <a:ext cx="8642160" cy="3909960"/>
            <a:chOff x="250920" y="1844640"/>
            <a:chExt cx="8642160" cy="39099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50920" y="1844640"/>
              <a:ext cx="8642160" cy="39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250920" y="1844640"/>
              <a:ext cx="8642160" cy="39099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469800" indent="-46980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01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ласична модель веб-застосува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068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2708280"/>
            <a:ext cx="237636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6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ап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4149720"/>
            <a:ext cx="237636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55592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2708280"/>
            <a:ext cx="2521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Брауз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149720"/>
            <a:ext cx="2521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Брауз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76360" y="4508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0010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Модель AJA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708280"/>
            <a:ext cx="237636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ап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708280"/>
            <a:ext cx="2521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Брауз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360" y="335772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5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924280"/>
            <a:ext cx="201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MLHttpRequ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55:04Z</dcterms:created>
  <dc:creator>Vladimir</dc:creator>
  <dc:description/>
  <dc:language>en-US</dc:language>
  <cp:lastModifiedBy>Vladimir</cp:lastModifiedBy>
  <dcterms:modified xsi:type="dcterms:W3CDTF">2008-03-18T23:02:31Z</dcterms:modified>
  <cp:revision>16</cp:revision>
  <dc:subject/>
  <dc:title>Ajax як сучасна технологія кліент-серверних веб-систем</dc:title>
</cp:coreProperties>
</file>